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30.jpeg" ContentType="image/jpeg"/>
  <Override PartName="/ppt/media/image15.png" ContentType="image/png"/>
  <Override PartName="/ppt/media/image34.wmf" ContentType="image/x-wmf"/>
  <Override PartName="/ppt/media/image14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DF4-4DAF-4009-916E-592D9A06C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862-68B2-40DA-A96B-7FAD602BD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E58-A3CA-4FBF-B5E6-768BB45F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2AB-831B-4BA1-BAFD-34D9B6D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DD1-4721-4019-A066-E678F077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11F-63AF-48C9-836A-00AE8E3C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B87-B75F-4DE3-93E9-8FB0910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4DD-0AAA-46B9-A857-6EE6929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717-A6FD-48F6-BDB1-55D701B9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8E7-E43C-4FE1-9BBC-652EAA2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DF6-8FB9-4B74-987E-BFEAFC90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CB5-424D-4B95-89A1-7C15E59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CEA-08BB-43F2-8E67-BD7442C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AC2-520F-4A52-A593-60E7A7CD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6F2F-E26C-427B-BF7C-BFE93AE189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zelenim.narod.ru/tree.gif" TargetMode="External"/><Relationship Id="rId2" Type="http://schemas.openxmlformats.org/officeDocument/2006/relationships/hyperlink" Target="http://ozelenim.narod.ru/tree.gif" TargetMode="External"/><Relationship Id="rId3" Type="http://schemas.openxmlformats.org/officeDocument/2006/relationships/hyperlink" Target="http://www.gumbit.ru/upload/iblock/3f3/so-3_1_09_00.jpg" TargetMode="External"/><Relationship Id="rId4" Type="http://schemas.openxmlformats.org/officeDocument/2006/relationships/hyperlink" Target="http://i031.radikal.ru/0804/c8/2749cfa95959.jpg" TargetMode="External"/><Relationship Id="rId5" Type="http://schemas.openxmlformats.org/officeDocument/2006/relationships/hyperlink" Target="http://megadoski.ru/s_images/12225415365873.jpg" TargetMode="External"/><Relationship Id="rId6" Type="http://schemas.openxmlformats.org/officeDocument/2006/relationships/hyperlink" Target="http://img3.nnm.ru/imagez/gallery/a/2/4/f/7/a24f7dc4009153475b3898403e0b930e_full.jpg" TargetMode="External"/><Relationship Id="rId7" Type="http://schemas.openxmlformats.org/officeDocument/2006/relationships/hyperlink" Target="http://ill-777.narod.ru/777magazine4_files/jajtso.gif" TargetMode="External"/><Relationship Id="rId8" Type="http://schemas.openxmlformats.org/officeDocument/2006/relationships/hyperlink" Target="http://www.wtv-zone.com/tweet/FUN-UNUSUAL/AppleWworm.gif" TargetMode="External"/><Relationship Id="rId9" Type="http://schemas.openxmlformats.org/officeDocument/2006/relationships/hyperlink" Target="http://boe.mono.k12.wv.us/clipart/apple.jpg" TargetMode="External"/><Relationship Id="rId10" Type="http://schemas.openxmlformats.org/officeDocument/2006/relationships/hyperlink" Target="http://nikkka.ru/image/krokodil.png" TargetMode="External"/><Relationship Id="rId11" Type="http://schemas.openxmlformats.org/officeDocument/2006/relationships/hyperlink" Target="http://nikkka.ru/image/krokodil.png" TargetMode="External"/><Relationship Id="rId12" Type="http://schemas.openxmlformats.org/officeDocument/2006/relationships/hyperlink" Target="http://maryna1111.narod.ru/Image9.gif" TargetMode="External"/><Relationship Id="rId13" Type="http://schemas.openxmlformats.org/officeDocument/2006/relationships/hyperlink" Target="http://b.foto.radikal.ru/0610/22582a8113a9t.jpg" TargetMode="External"/><Relationship Id="rId14" Type="http://schemas.openxmlformats.org/officeDocument/2006/relationships/hyperlink" Target="http://b.foto.radikal.ru/0610/22582a8113a9t.jpg" TargetMode="External"/><Relationship Id="rId15" Type="http://schemas.openxmlformats.org/officeDocument/2006/relationships/hyperlink" Target="http://b.foto.radikal.ru/0610/22582a8113a9t.jpg" TargetMode="External"/><Relationship Id="rId16" Type="http://schemas.openxmlformats.org/officeDocument/2006/relationships/hyperlink" Target="http://b.foto.radikal.ru/0610/22582a8113a9t.jpg" TargetMode="External"/><Relationship Id="rId17" Type="http://schemas.openxmlformats.org/officeDocument/2006/relationships/hyperlink" Target="http://alexey.lospet.ru/20090518/tver2009_72.jpg" TargetMode="External"/><Relationship Id="rId18" Type="http://schemas.openxmlformats.org/officeDocument/2006/relationships/hyperlink" Target="http://lenagold.ru/fon/clipart/g/grib/grib08.jpg" TargetMode="External"/><Relationship Id="rId19" Type="http://schemas.openxmlformats.org/officeDocument/2006/relationships/hyperlink" Target="http://lenagold.ru/fon/clipart/g/grib/grib08.jpg" TargetMode="External"/><Relationship Id="rId20" Type="http://schemas.openxmlformats.org/officeDocument/2006/relationships/hyperlink" Target="http://lenagold.ru/fon/clipart/g/grib/grib08.jpg" TargetMode="External"/><Relationship Id="rId21" Type="http://schemas.openxmlformats.org/officeDocument/2006/relationships/hyperlink" Target="http://lenagold.ru/fon/clipart/g/grib/grib08.jpg" TargetMode="External"/><Relationship Id="rId22" Type="http://schemas.openxmlformats.org/officeDocument/2006/relationships/hyperlink" Target="http://lenagold.ru/fon/clipart/g/grib/grib08.jpg" TargetMode="External"/><Relationship Id="rId23" Type="http://schemas.openxmlformats.org/officeDocument/2006/relationships/hyperlink" Target="http://lenagold.ru/fon/clipart/g/grib/grib08.jpg" TargetMode="External"/><Relationship Id="rId24" Type="http://schemas.openxmlformats.org/officeDocument/2006/relationships/hyperlink" Target="http://lenagold.ru/fon/clipart/g/grib/grib08.jpg" TargetMode="External"/><Relationship Id="rId25" Type="http://schemas.openxmlformats.org/officeDocument/2006/relationships/hyperlink" Target="http://lenagold.ru/fon/clipart/g/grib/grib08.jpg" TargetMode="External"/><Relationship Id="rId26" Type="http://schemas.openxmlformats.org/officeDocument/2006/relationships/hyperlink" Target="http://lenagold.ru/fon/clipart/g/grib/grib08.jpg" TargetMode="External"/><Relationship Id="rId27" Type="http://schemas.openxmlformats.org/officeDocument/2006/relationships/hyperlink" Target="http://lenagold.ru/fon/clipart/g/grib/grib08.jpg" TargetMode="External"/><Relationship Id="rId28" Type="http://schemas.openxmlformats.org/officeDocument/2006/relationships/hyperlink" Target="http://grib.forest.ru/mushr/krasniy.jpg" TargetMode="External"/><Relationship Id="rId29" Type="http://schemas.openxmlformats.org/officeDocument/2006/relationships/hyperlink" Target="http://grib.forest.ru/mushr/krasniy.jpg" TargetMode="External"/><Relationship Id="rId30" Type="http://schemas.openxmlformats.org/officeDocument/2006/relationships/hyperlink" Target="http://gorodbor.ru/shop/img/basket_empty.gif" TargetMode="External"/><Relationship Id="rId31" Type="http://schemas.openxmlformats.org/officeDocument/2006/relationships/hyperlink" Target="http://gorodbor.ru/shop/img/basket_empty.gif" TargetMode="External"/><Relationship Id="rId32" Type="http://schemas.openxmlformats.org/officeDocument/2006/relationships/hyperlink" Target="http://premierleagues.ru/images/football.png" TargetMode="External"/><Relationship Id="rId33" Type="http://schemas.openxmlformats.org/officeDocument/2006/relationships/hyperlink" Target="http://premierleagues.ru/images/football.png" TargetMode="External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8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3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6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-ши, ча-ща, чу-щу, чн-чк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играх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 2"/>
          <p:cNvSpPr/>
          <p:nvPr/>
        </p:nvSpPr>
        <p:spPr>
          <a:xfrm>
            <a:off x="2057400" y="4800600"/>
            <a:ext cx="5643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MCj0429829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447920" cy="13147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685800" y="13716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-ШИ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 БУК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-ЩА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 БУКВОЙ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-ЩУ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 БУКВОЙ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Н-ЧК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22960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7493"/>
                </a:moveTo>
                <a:lnTo>
                  <a:pt x="22415" y="7493"/>
                </a:lnTo>
                <a:lnTo>
                  <a:pt x="22415" y="12828"/>
                </a:lnTo>
                <a:cubicBezTo>
                  <a:pt x="22415" y="13751"/>
                  <a:pt x="23216" y="14482"/>
                  <a:pt x="24251" y="14482"/>
                </a:cubicBezTo>
                <a:lnTo>
                  <a:pt x="25914" y="14482"/>
                </a:lnTo>
                <a:cubicBezTo>
                  <a:pt x="26950" y="14482"/>
                  <a:pt x="27750" y="13751"/>
                  <a:pt x="27750" y="12828"/>
                </a:cubicBezTo>
                <a:lnTo>
                  <a:pt x="27750" y="7493"/>
                </a:lnTo>
                <a:lnTo>
                  <a:pt x="25914" y="7493"/>
                </a:lnTo>
                <a:lnTo>
                  <a:pt x="29421" y="3985"/>
                </a:lnTo>
                <a:lnTo>
                  <a:pt x="33094" y="7493"/>
                </a:lnTo>
                <a:lnTo>
                  <a:pt x="31258" y="7493"/>
                </a:lnTo>
                <a:lnTo>
                  <a:pt x="31258" y="12828"/>
                </a:lnTo>
                <a:cubicBezTo>
                  <a:pt x="31258" y="15596"/>
                  <a:pt x="28682" y="18155"/>
                  <a:pt x="25914" y="18155"/>
                </a:cubicBezTo>
                <a:lnTo>
                  <a:pt x="24251" y="18155"/>
                </a:lnTo>
                <a:cubicBezTo>
                  <a:pt x="21484" y="18155"/>
                  <a:pt x="18907" y="15596"/>
                  <a:pt x="18907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7315200" y="1676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8001000" y="1676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6"/>
          <p:cNvSpPr/>
          <p:nvPr/>
        </p:nvSpPr>
        <p:spPr>
          <a:xfrm>
            <a:off x="8001000" y="2819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7315200" y="2819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8"/>
          <p:cNvSpPr/>
          <p:nvPr/>
        </p:nvSpPr>
        <p:spPr>
          <a:xfrm>
            <a:off x="8001000" y="3962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7315200" y="39625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6095880" y="5029200"/>
            <a:ext cx="129564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1"/>
          <p:cNvSpPr/>
          <p:nvPr/>
        </p:nvSpPr>
        <p:spPr>
          <a:xfrm>
            <a:off x="4648320" y="5029200"/>
            <a:ext cx="129528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07084 4.44444E-006 E">
                                      <p:cBhvr>
                                        <p:cTn id="67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7084 -2.22222E-006 E">
                                      <p:cBhvr>
                                        <p:cTn id="69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9"/>
          <p:cNvSpPr/>
          <p:nvPr/>
        </p:nvSpPr>
        <p:spPr>
          <a:xfrm>
            <a:off x="533520" y="457200"/>
            <a:ext cx="8229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zelenim.narod.ru/tree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gumbit.ru/upload/iblock/3f3/so-3_1_09_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i031.radikal.ru/0804/c8/2749cfa9595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megadoski.ru/s_images/1222541536587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img3.nnm.ru/imagez/gallery/a/2/4/f/7/a24f7dc4009153475b3898403e0b930e_ful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ill-777.narod.ru/777magazine4_files/jajtso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wtv-zone.com/tweet/FUN-UNUSUAL/AppleWworm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boe.mono.k12.wv.us/clipart/app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nikkka.ru/image/krokodil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maryna1111.narod.ru/Image9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b.foto.radikal.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0610/22582a8113a9t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alexey.lospet.ru/20090518/tver2009_7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lenagold.ru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fon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clipart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/g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grib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/grib08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grib.forest.ru/mushr/krasni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gorodbor.ru/shop/img/basket_emp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premierleagues.ru/images/footbal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609480" y="3657600"/>
            <a:ext cx="8153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arkov3.narod.ru/givotnie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у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parkov3.narod.ru/ludi.ht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м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noise.podst.ru/?tag=%D0%BD%D0%B5%D1%80%D0%B5%D0%B0%D0%BB%D1%8C%D0%BD%D1%8B%D0%B5+%D0%B7%D0%B2%D1%83%D0%BA%D0%B8&amp;page=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в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grsites.com/archive/sounds/view/106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2045160" y="4952880"/>
            <a:ext cx="514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Аразова Светлана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МАО, г. Сургут, МБОУ СОШ "Прогимназия"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: «Школа АБВ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shkola-abv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3060000" y="22860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одерж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66680" y="129528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Из какого яйца вылупится цыпленок?  (</a:t>
            </a:r>
            <a:r>
              <a:rPr b="1" lang="ru-RU" sz="3200" spc="-1" strike="noStrike">
                <a:solidFill>
                  <a:srgbClr val="c00000"/>
                </a:solidFill>
                <a:latin typeface="Arial Narrow"/>
              </a:rPr>
              <a:t>жи-ши</a:t>
            </a: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Собери яблоки. (</a:t>
            </a:r>
            <a:r>
              <a:rPr b="1" lang="ru-RU" sz="3200" spc="-1" strike="noStrike">
                <a:solidFill>
                  <a:srgbClr val="c00000"/>
                </a:solidFill>
                <a:latin typeface="Arial Narrow"/>
              </a:rPr>
              <a:t>ча-ща, чу-щу</a:t>
            </a: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Собери грибы. (</a:t>
            </a:r>
            <a:r>
              <a:rPr b="1" lang="ru-RU" sz="3200" spc="-1" strike="noStrike">
                <a:solidFill>
                  <a:srgbClr val="c00000"/>
                </a:solidFill>
                <a:latin typeface="Arial Narrow"/>
              </a:rPr>
              <a:t>чн-чк</a:t>
            </a: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Забей гол! (</a:t>
            </a:r>
            <a:r>
              <a:rPr b="1" lang="ru-RU" sz="3200" spc="-1" strike="noStrike">
                <a:solidFill>
                  <a:srgbClr val="c00000"/>
                </a:solidFill>
                <a:latin typeface="Arial Narrow"/>
              </a:rPr>
              <a:t>обобщение по темам</a:t>
            </a:r>
            <a:r>
              <a:rPr b="1" lang="ru-RU" sz="3200" spc="-1" strike="noStrike">
                <a:solidFill>
                  <a:srgbClr val="00206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начало 4">
            <a:hlinkClick r:id="rId1" action="ppaction://hlinksldjump"/>
          </p:cNvPr>
          <p:cNvSpPr/>
          <p:nvPr/>
        </p:nvSpPr>
        <p:spPr>
          <a:xfrm>
            <a:off x="228600" y="14479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6" h="21600">
                <a:moveTo>
                  <a:pt x="20804" y="10800"/>
                </a:moveTo>
                <a:lnTo>
                  <a:pt x="31310" y="3794"/>
                </a:lnTo>
                <a:lnTo>
                  <a:pt x="31310" y="17806"/>
                </a:lnTo>
                <a:close/>
              </a:path>
              <a:path fill="darken" w="48606" h="21600">
                <a:moveTo>
                  <a:pt x="17297" y="3794"/>
                </a:moveTo>
                <a:lnTo>
                  <a:pt x="18959" y="3794"/>
                </a:lnTo>
                <a:lnTo>
                  <a:pt x="18959" y="17806"/>
                </a:lnTo>
                <a:lnTo>
                  <a:pt x="172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правляющая кнопка: в начало 5">
            <a:hlinkClick r:id="rId2" action="ppaction://hlinksldjump"/>
          </p:cNvPr>
          <p:cNvSpPr/>
          <p:nvPr/>
        </p:nvSpPr>
        <p:spPr>
          <a:xfrm>
            <a:off x="228600" y="28954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20776" y="10800"/>
                </a:moveTo>
                <a:lnTo>
                  <a:pt x="31281" y="3794"/>
                </a:lnTo>
                <a:lnTo>
                  <a:pt x="31281" y="17806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18930" y="3794"/>
                </a:lnTo>
                <a:lnTo>
                  <a:pt x="18930" y="17806"/>
                </a:lnTo>
                <a:lnTo>
                  <a:pt x="172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228600" y="388620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20776" y="10800"/>
                </a:moveTo>
                <a:lnTo>
                  <a:pt x="31281" y="3794"/>
                </a:lnTo>
                <a:lnTo>
                  <a:pt x="31281" y="17806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18930" y="3794"/>
                </a:lnTo>
                <a:lnTo>
                  <a:pt x="18930" y="17806"/>
                </a:lnTo>
                <a:lnTo>
                  <a:pt x="172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228600" y="48769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6" h="21600">
                <a:moveTo>
                  <a:pt x="20804" y="10800"/>
                </a:moveTo>
                <a:lnTo>
                  <a:pt x="31310" y="3794"/>
                </a:lnTo>
                <a:lnTo>
                  <a:pt x="31310" y="17806"/>
                </a:lnTo>
                <a:close/>
              </a:path>
              <a:path fill="darken" w="48606" h="21600">
                <a:moveTo>
                  <a:pt x="17297" y="3794"/>
                </a:moveTo>
                <a:lnTo>
                  <a:pt x="18959" y="3794"/>
                </a:lnTo>
                <a:lnTo>
                  <a:pt x="18959" y="17806"/>
                </a:lnTo>
                <a:lnTo>
                  <a:pt x="172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0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 flipH="1">
            <a:off x="7162560" y="358128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Картинка 123 из 25661"/>
          <p:cNvPicPr/>
          <p:nvPr/>
        </p:nvPicPr>
        <p:blipFill>
          <a:blip r:embed="rId2"/>
          <a:stretch/>
        </p:blipFill>
        <p:spPr>
          <a:xfrm>
            <a:off x="4505400" y="3352680"/>
            <a:ext cx="2031840" cy="91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Картинка 123 из 25661"/>
          <p:cNvPicPr/>
          <p:nvPr/>
        </p:nvPicPr>
        <p:blipFill>
          <a:blip r:embed="rId3"/>
          <a:stretch/>
        </p:blipFill>
        <p:spPr>
          <a:xfrm>
            <a:off x="5562720" y="5334120"/>
            <a:ext cx="1703160" cy="91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rcRect l="10003" t="0" r="0" b="11380"/>
          <a:stretch/>
        </p:blipFill>
        <p:spPr>
          <a:xfrm flipH="1">
            <a:off x="4191120" y="12193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2895480" y="3733920"/>
            <a:ext cx="1616040" cy="119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2487600" y="5257800"/>
            <a:ext cx="182088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Картинка 39 из 7607"/>
          <p:cNvPicPr/>
          <p:nvPr/>
        </p:nvPicPr>
        <p:blipFill>
          <a:blip r:embed="rId7"/>
          <a:stretch/>
        </p:blipFill>
        <p:spPr>
          <a:xfrm>
            <a:off x="0" y="0"/>
            <a:ext cx="3962520" cy="3952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0"/>
          <p:cNvSpPr/>
          <p:nvPr/>
        </p:nvSpPr>
        <p:spPr>
          <a:xfrm>
            <a:off x="40384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 – ШИ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ши с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а 13 из 33317"/>
          <p:cNvPicPr/>
          <p:nvPr/>
        </p:nvPicPr>
        <p:blipFill>
          <a:blip r:embed="rId8"/>
          <a:stretch/>
        </p:blipFill>
        <p:spPr>
          <a:xfrm>
            <a:off x="990720" y="4343400"/>
            <a:ext cx="143964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7"/>
          <p:cNvSpPr/>
          <p:nvPr/>
        </p:nvSpPr>
        <p:spPr>
          <a:xfrm>
            <a:off x="7396920" y="1523880"/>
            <a:ext cx="9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8"/>
          <p:cNvSpPr/>
          <p:nvPr/>
        </p:nvSpPr>
        <p:spPr>
          <a:xfrm>
            <a:off x="5187960" y="41148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9"/>
          <p:cNvSpPr/>
          <p:nvPr/>
        </p:nvSpPr>
        <p:spPr>
          <a:xfrm>
            <a:off x="773280" y="518148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0"/>
          <p:cNvSpPr/>
          <p:nvPr/>
        </p:nvSpPr>
        <p:spPr>
          <a:xfrm>
            <a:off x="6102360" y="601992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Картинка 13 из 33317"/>
          <p:cNvPicPr/>
          <p:nvPr/>
        </p:nvPicPr>
        <p:blipFill>
          <a:blip r:embed="rId9"/>
          <a:stretch/>
        </p:blipFill>
        <p:spPr>
          <a:xfrm>
            <a:off x="7238880" y="2133720"/>
            <a:ext cx="1290600" cy="68580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126"/>
          <p:cNvGrpSpPr/>
          <p:nvPr/>
        </p:nvGrpSpPr>
        <p:grpSpPr>
          <a:xfrm>
            <a:off x="6637680" y="1220040"/>
            <a:ext cx="2125440" cy="1599480"/>
            <a:chOff x="6637680" y="1220040"/>
            <a:chExt cx="2125440" cy="1599480"/>
          </a:xfrm>
        </p:grpSpPr>
        <p:grpSp>
          <p:nvGrpSpPr>
            <p:cNvPr id="73" name="Группа 15"/>
            <p:cNvGrpSpPr/>
            <p:nvPr/>
          </p:nvGrpSpPr>
          <p:grpSpPr>
            <a:xfrm>
              <a:off x="6637680" y="1220040"/>
              <a:ext cx="2125440" cy="1599480"/>
              <a:chOff x="6637680" y="1220040"/>
              <a:chExt cx="2125440" cy="1599480"/>
            </a:xfrm>
          </p:grpSpPr>
          <p:sp>
            <p:nvSpPr>
              <p:cNvPr id="74" name="Овал 120"/>
              <p:cNvSpPr/>
              <p:nvPr/>
            </p:nvSpPr>
            <p:spPr>
              <a:xfrm rot="20854800">
                <a:off x="6729480" y="1402920"/>
                <a:ext cx="1816200" cy="1052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" name="Picture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05720" y="1295280"/>
                <a:ext cx="2057400" cy="152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Прямоугольник 125"/>
            <p:cNvSpPr/>
            <p:nvPr/>
          </p:nvSpPr>
          <p:spPr>
            <a:xfrm>
              <a:off x="7320960" y="1752480"/>
              <a:ext cx="10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ш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128"/>
          <p:cNvGrpSpPr/>
          <p:nvPr/>
        </p:nvGrpSpPr>
        <p:grpSpPr>
          <a:xfrm>
            <a:off x="4580280" y="2744280"/>
            <a:ext cx="2125440" cy="1599120"/>
            <a:chOff x="4580280" y="2744280"/>
            <a:chExt cx="2125440" cy="1599120"/>
          </a:xfrm>
        </p:grpSpPr>
        <p:grpSp>
          <p:nvGrpSpPr>
            <p:cNvPr id="78" name="Группа 15"/>
            <p:cNvGrpSpPr/>
            <p:nvPr/>
          </p:nvGrpSpPr>
          <p:grpSpPr>
            <a:xfrm>
              <a:off x="4580280" y="2744280"/>
              <a:ext cx="2125440" cy="1599120"/>
              <a:chOff x="4580280" y="2744280"/>
              <a:chExt cx="2125440" cy="1599120"/>
            </a:xfrm>
          </p:grpSpPr>
          <p:sp>
            <p:nvSpPr>
              <p:cNvPr id="79" name="Овал 117"/>
              <p:cNvSpPr/>
              <p:nvPr/>
            </p:nvSpPr>
            <p:spPr>
              <a:xfrm rot="20854800">
                <a:off x="4672080" y="2927160"/>
                <a:ext cx="1816200" cy="1052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Picture 6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8320" y="2819520"/>
                <a:ext cx="20574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Прямоугольник 127"/>
            <p:cNvSpPr/>
            <p:nvPr/>
          </p:nvSpPr>
          <p:spPr>
            <a:xfrm>
              <a:off x="5112360" y="3276720"/>
              <a:ext cx="120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ёжы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130"/>
          <p:cNvGrpSpPr/>
          <p:nvPr/>
        </p:nvGrpSpPr>
        <p:grpSpPr>
          <a:xfrm>
            <a:off x="5105520" y="4547520"/>
            <a:ext cx="2590560" cy="1853280"/>
            <a:chOff x="5105520" y="4547520"/>
            <a:chExt cx="2590560" cy="1853280"/>
          </a:xfrm>
        </p:grpSpPr>
        <p:grpSp>
          <p:nvGrpSpPr>
            <p:cNvPr id="83" name="Группа 15"/>
            <p:cNvGrpSpPr/>
            <p:nvPr/>
          </p:nvGrpSpPr>
          <p:grpSpPr>
            <a:xfrm>
              <a:off x="5105520" y="4547520"/>
              <a:ext cx="2590560" cy="1853280"/>
              <a:chOff x="5105520" y="4547520"/>
              <a:chExt cx="2590560" cy="1853280"/>
            </a:xfrm>
          </p:grpSpPr>
          <p:sp>
            <p:nvSpPr>
              <p:cNvPr id="84" name="Овал 114"/>
              <p:cNvSpPr/>
              <p:nvPr/>
            </p:nvSpPr>
            <p:spPr>
              <a:xfrm rot="20854800">
                <a:off x="5209560" y="4771800"/>
                <a:ext cx="2219400" cy="1211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Picture 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81480" y="4648320"/>
                <a:ext cx="2514600" cy="175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Прямоугольник 129"/>
            <p:cNvSpPr/>
            <p:nvPr/>
          </p:nvSpPr>
          <p:spPr>
            <a:xfrm>
              <a:off x="5220720" y="5181480"/>
              <a:ext cx="22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шыповн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132"/>
          <p:cNvGrpSpPr/>
          <p:nvPr/>
        </p:nvGrpSpPr>
        <p:grpSpPr>
          <a:xfrm>
            <a:off x="533520" y="3954240"/>
            <a:ext cx="2280600" cy="1684440"/>
            <a:chOff x="533520" y="3954240"/>
            <a:chExt cx="2280600" cy="1684440"/>
          </a:xfrm>
        </p:grpSpPr>
        <p:grpSp>
          <p:nvGrpSpPr>
            <p:cNvPr id="88" name="Группа 15"/>
            <p:cNvGrpSpPr/>
            <p:nvPr/>
          </p:nvGrpSpPr>
          <p:grpSpPr>
            <a:xfrm>
              <a:off x="533520" y="3954240"/>
              <a:ext cx="2280600" cy="1684440"/>
              <a:chOff x="533520" y="3954240"/>
              <a:chExt cx="2280600" cy="1684440"/>
            </a:xfrm>
          </p:grpSpPr>
          <p:sp>
            <p:nvSpPr>
              <p:cNvPr id="89" name="Овал 111"/>
              <p:cNvSpPr/>
              <p:nvPr/>
            </p:nvSpPr>
            <p:spPr>
              <a:xfrm flipH="1" rot="745200">
                <a:off x="766800" y="4151160"/>
                <a:ext cx="195120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Picture 6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33520" y="4038480"/>
                <a:ext cx="220968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Прямоугольник 131"/>
            <p:cNvSpPr/>
            <p:nvPr/>
          </p:nvSpPr>
          <p:spPr>
            <a:xfrm>
              <a:off x="867960" y="4495680"/>
              <a:ext cx="163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триж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Группа 134"/>
          <p:cNvGrpSpPr/>
          <p:nvPr/>
        </p:nvGrpSpPr>
        <p:grpSpPr>
          <a:xfrm>
            <a:off x="2438280" y="4930200"/>
            <a:ext cx="2509560" cy="1775520"/>
            <a:chOff x="2438280" y="4930200"/>
            <a:chExt cx="2509560" cy="1775520"/>
          </a:xfrm>
        </p:grpSpPr>
        <p:grpSp>
          <p:nvGrpSpPr>
            <p:cNvPr id="93" name="Группа 15"/>
            <p:cNvGrpSpPr/>
            <p:nvPr/>
          </p:nvGrpSpPr>
          <p:grpSpPr>
            <a:xfrm>
              <a:off x="2438280" y="4930200"/>
              <a:ext cx="2509560" cy="1775520"/>
              <a:chOff x="2438280" y="4930200"/>
              <a:chExt cx="2509560" cy="1775520"/>
            </a:xfrm>
          </p:grpSpPr>
          <p:sp>
            <p:nvSpPr>
              <p:cNvPr id="94" name="Овал 108"/>
              <p:cNvSpPr/>
              <p:nvPr/>
            </p:nvSpPr>
            <p:spPr>
              <a:xfrm flipH="1" rot="745200">
                <a:off x="2697120" y="5147640"/>
                <a:ext cx="2151360" cy="1158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Picture 6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38280" y="5029200"/>
                <a:ext cx="2438640" cy="16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Прямоугольник 133"/>
            <p:cNvSpPr/>
            <p:nvPr/>
          </p:nvSpPr>
          <p:spPr>
            <a:xfrm flipH="1">
              <a:off x="2698200" y="5498640"/>
              <a:ext cx="198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нежин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42"/>
          <p:cNvGrpSpPr/>
          <p:nvPr/>
        </p:nvGrpSpPr>
        <p:grpSpPr>
          <a:xfrm>
            <a:off x="6781320" y="2971080"/>
            <a:ext cx="2206800" cy="1677240"/>
            <a:chOff x="6781320" y="2971080"/>
            <a:chExt cx="2206800" cy="1677240"/>
          </a:xfrm>
        </p:grpSpPr>
        <p:grpSp>
          <p:nvGrpSpPr>
            <p:cNvPr id="98" name="Группа 15"/>
            <p:cNvGrpSpPr/>
            <p:nvPr/>
          </p:nvGrpSpPr>
          <p:grpSpPr>
            <a:xfrm>
              <a:off x="6781320" y="2971080"/>
              <a:ext cx="2206800" cy="1677240"/>
              <a:chOff x="6781320" y="2971080"/>
              <a:chExt cx="2206800" cy="1677240"/>
            </a:xfrm>
          </p:grpSpPr>
          <p:sp>
            <p:nvSpPr>
              <p:cNvPr id="99" name="Овал 139"/>
              <p:cNvSpPr/>
              <p:nvPr/>
            </p:nvSpPr>
            <p:spPr>
              <a:xfrm flipH="1" rot="745200">
                <a:off x="7006320" y="3160800"/>
                <a:ext cx="188460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6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6781320" y="3048120"/>
                <a:ext cx="213372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Прямоугольник 141"/>
            <p:cNvSpPr/>
            <p:nvPr/>
          </p:nvSpPr>
          <p:spPr>
            <a:xfrm>
              <a:off x="7170120" y="358128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жиз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150"/>
          <p:cNvGrpSpPr/>
          <p:nvPr/>
        </p:nvGrpSpPr>
        <p:grpSpPr>
          <a:xfrm>
            <a:off x="4038480" y="974880"/>
            <a:ext cx="2435760" cy="1768320"/>
            <a:chOff x="4038480" y="974880"/>
            <a:chExt cx="2435760" cy="1768320"/>
          </a:xfrm>
        </p:grpSpPr>
        <p:grpSp>
          <p:nvGrpSpPr>
            <p:cNvPr id="103" name="Группа 15"/>
            <p:cNvGrpSpPr/>
            <p:nvPr/>
          </p:nvGrpSpPr>
          <p:grpSpPr>
            <a:xfrm>
              <a:off x="4038480" y="974880"/>
              <a:ext cx="2435760" cy="1768320"/>
              <a:chOff x="4038480" y="974880"/>
              <a:chExt cx="2435760" cy="1768320"/>
            </a:xfrm>
          </p:grpSpPr>
          <p:sp>
            <p:nvSpPr>
              <p:cNvPr id="104" name="Овал 136"/>
              <p:cNvSpPr/>
              <p:nvPr/>
            </p:nvSpPr>
            <p:spPr>
              <a:xfrm flipH="1" rot="745200">
                <a:off x="4287600" y="1185480"/>
                <a:ext cx="2086200" cy="1158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6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038480" y="1066680"/>
                <a:ext cx="2362320" cy="16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Прямоугольник 149"/>
            <p:cNvSpPr/>
            <p:nvPr/>
          </p:nvSpPr>
          <p:spPr>
            <a:xfrm>
              <a:off x="4579200" y="1523880"/>
              <a:ext cx="135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ыш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152"/>
          <p:cNvGrpSpPr/>
          <p:nvPr/>
        </p:nvGrpSpPr>
        <p:grpSpPr>
          <a:xfrm>
            <a:off x="2830320" y="3507840"/>
            <a:ext cx="2046600" cy="1521360"/>
            <a:chOff x="2830320" y="3507840"/>
            <a:chExt cx="2046600" cy="1521360"/>
          </a:xfrm>
        </p:grpSpPr>
        <p:grpSp>
          <p:nvGrpSpPr>
            <p:cNvPr id="108" name="Группа 15"/>
            <p:cNvGrpSpPr/>
            <p:nvPr/>
          </p:nvGrpSpPr>
          <p:grpSpPr>
            <a:xfrm>
              <a:off x="2830320" y="3507840"/>
              <a:ext cx="2046600" cy="1521360"/>
              <a:chOff x="2830320" y="3507840"/>
              <a:chExt cx="2046600" cy="1521360"/>
            </a:xfrm>
          </p:grpSpPr>
          <p:sp>
            <p:nvSpPr>
              <p:cNvPr id="109" name="Овал 123"/>
              <p:cNvSpPr/>
              <p:nvPr/>
            </p:nvSpPr>
            <p:spPr>
              <a:xfrm rot="20854800">
                <a:off x="2917080" y="3683880"/>
                <a:ext cx="1749600" cy="100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95480" y="3581280"/>
                <a:ext cx="1981440" cy="144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Прямоугольник 151"/>
            <p:cNvSpPr/>
            <p:nvPr/>
          </p:nvSpPr>
          <p:spPr>
            <a:xfrm>
              <a:off x="3246840" y="3943080"/>
              <a:ext cx="119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шил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к.wav" descr=""/>
          <p:cNvPicPr/>
          <p:nvPr/>
        </p:nvPicPr>
        <p:blipFill>
          <a:blip r:embed="rId18"/>
          <a:stretch/>
        </p:blipFill>
        <p:spPr>
          <a:xfrm>
            <a:off x="-60948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к.wav" descr=""/>
          <p:cNvPicPr/>
          <p:nvPr/>
        </p:nvPicPr>
        <p:blipFill>
          <a:blip r:embed="rId19"/>
          <a:stretch/>
        </p:blipFill>
        <p:spPr>
          <a:xfrm>
            <a:off x="-60948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к.wav" descr=""/>
          <p:cNvPicPr/>
          <p:nvPr/>
        </p:nvPicPr>
        <p:blipFill>
          <a:blip r:embed="rId20"/>
          <a:stretch/>
        </p:blipFill>
        <p:spPr>
          <a:xfrm>
            <a:off x="-60948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к.wav" descr=""/>
          <p:cNvPicPr/>
          <p:nvPr/>
        </p:nvPicPr>
        <p:blipFill>
          <a:blip r:embed="rId21"/>
          <a:stretch/>
        </p:blipFill>
        <p:spPr>
          <a:xfrm>
            <a:off x="-60948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2.22222E-006 L 0.34167 2.22222E-006 E">
                                      <p:cBhvr>
                                        <p:cTn id="2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5E-006 3.33333E-006 L 0.59531 0.37777 E">
                                      <p:cBhvr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11111E-006 -4.44444E-006 L -0.42639 0.31112 E"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0 L -0.43784 0 E">
                                      <p:cBhvr>
                                        <p:cTn id="9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45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45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45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45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19"/>
          <p:cNvSpPr/>
          <p:nvPr/>
        </p:nvSpPr>
        <p:spPr>
          <a:xfrm>
            <a:off x="2209680" y="1905120"/>
            <a:ext cx="5943600" cy="32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ЖИ </a:t>
            </a: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ШИ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иши с буквой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1"/>
          <p:cNvGrpSpPr/>
          <p:nvPr/>
        </p:nvGrpSpPr>
        <p:grpSpPr>
          <a:xfrm>
            <a:off x="2438280" y="323640"/>
            <a:ext cx="5643720" cy="1191240"/>
            <a:chOff x="2438280" y="323640"/>
            <a:chExt cx="5643720" cy="1191240"/>
          </a:xfrm>
        </p:grpSpPr>
        <p:sp>
          <p:nvSpPr>
            <p:cNvPr id="118" name="Rectangle 2"/>
            <p:cNvSpPr/>
            <p:nvPr/>
          </p:nvSpPr>
          <p:spPr>
            <a:xfrm>
              <a:off x="2438280" y="32364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"/>
                </a:rPr>
                <a:t>сформулируй правил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оугольник 20"/>
            <p:cNvSpPr/>
            <p:nvPr/>
          </p:nvSpPr>
          <p:spPr>
            <a:xfrm>
              <a:off x="2438280" y="457200"/>
              <a:ext cx="56437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2" descr="MCj04281130000[1]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1817640"/>
          </a:xfrm>
          <a:prstGeom prst="rect">
            <a:avLst/>
          </a:prstGeom>
          <a:ln w="0">
            <a:noFill/>
          </a:ln>
        </p:spPr>
      </p:pic>
      <p:sp>
        <p:nvSpPr>
          <p:cNvPr id="121" name="Управляющая кнопка: возврат 15">
            <a:hlinkClick r:id="rId2" action="ppaction://hlinksldjump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493"/>
                </a:moveTo>
                <a:lnTo>
                  <a:pt x="23476" y="7493"/>
                </a:lnTo>
                <a:lnTo>
                  <a:pt x="23476" y="12828"/>
                </a:lnTo>
                <a:cubicBezTo>
                  <a:pt x="23476" y="13751"/>
                  <a:pt x="24276" y="14482"/>
                  <a:pt x="25312" y="14482"/>
                </a:cubicBezTo>
                <a:lnTo>
                  <a:pt x="26975" y="14482"/>
                </a:lnTo>
                <a:cubicBezTo>
                  <a:pt x="28010" y="14482"/>
                  <a:pt x="28811" y="13751"/>
                  <a:pt x="28811" y="12828"/>
                </a:cubicBezTo>
                <a:lnTo>
                  <a:pt x="28811" y="7493"/>
                </a:lnTo>
                <a:lnTo>
                  <a:pt x="26975" y="7493"/>
                </a:lnTo>
                <a:lnTo>
                  <a:pt x="30482" y="3985"/>
                </a:lnTo>
                <a:lnTo>
                  <a:pt x="34155" y="7493"/>
                </a:lnTo>
                <a:lnTo>
                  <a:pt x="32319" y="7493"/>
                </a:lnTo>
                <a:lnTo>
                  <a:pt x="32319" y="12828"/>
                </a:lnTo>
                <a:cubicBezTo>
                  <a:pt x="32319" y="15596"/>
                  <a:pt x="29742" y="18155"/>
                  <a:pt x="26975" y="18155"/>
                </a:cubicBezTo>
                <a:lnTo>
                  <a:pt x="25312" y="18155"/>
                </a:lnTo>
                <a:cubicBezTo>
                  <a:pt x="22544" y="18155"/>
                  <a:pt x="19968" y="15596"/>
                  <a:pt x="19968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Группа 15" descr=""/>
          <p:cNvPicPr/>
          <p:nvPr/>
        </p:nvPicPr>
        <p:blipFill>
          <a:blip r:embed="rId3"/>
          <a:stretch/>
        </p:blipFill>
        <p:spPr>
          <a:xfrm>
            <a:off x="3200400" y="1712880"/>
            <a:ext cx="43099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5" descr="NA00417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8"/>
          <p:cNvSpPr/>
          <p:nvPr/>
        </p:nvSpPr>
        <p:spPr>
          <a:xfrm>
            <a:off x="1371600" y="4114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2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 – ЩА пиши с 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Картинка 30 из 26430"/>
          <p:cNvPicPr/>
          <p:nvPr/>
        </p:nvPicPr>
        <p:blipFill>
          <a:blip r:embed="rId2"/>
          <a:stretch/>
        </p:blipFill>
        <p:spPr>
          <a:xfrm>
            <a:off x="1371600" y="5410080"/>
            <a:ext cx="5943600" cy="1447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4"/>
          <p:cNvSpPr/>
          <p:nvPr/>
        </p:nvSpPr>
        <p:spPr>
          <a:xfrm>
            <a:off x="5029200" y="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 – ЩУ пиши с 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45"/>
          <p:cNvGrpSpPr/>
          <p:nvPr/>
        </p:nvGrpSpPr>
        <p:grpSpPr>
          <a:xfrm>
            <a:off x="3048120" y="2590920"/>
            <a:ext cx="1828800" cy="1828800"/>
            <a:chOff x="3048120" y="2590920"/>
            <a:chExt cx="1828800" cy="1828800"/>
          </a:xfrm>
        </p:grpSpPr>
        <p:pic>
          <p:nvPicPr>
            <p:cNvPr id="129" name="Picture 8" descr="Картинка 1184 из 82995"/>
            <p:cNvPicPr/>
            <p:nvPr/>
          </p:nvPicPr>
          <p:blipFill>
            <a:blip r:embed="rId3"/>
            <a:stretch/>
          </p:blipFill>
          <p:spPr>
            <a:xfrm>
              <a:off x="3048120" y="25909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5"/>
            <p:cNvSpPr/>
            <p:nvPr/>
          </p:nvSpPr>
          <p:spPr>
            <a:xfrm>
              <a:off x="3586680" y="3124080"/>
              <a:ext cx="93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</a:rPr>
                <a:t>ча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33"/>
          <p:cNvSpPr/>
          <p:nvPr/>
        </p:nvSpPr>
        <p:spPr>
          <a:xfrm>
            <a:off x="10210680" y="70102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wtv-zone.com/tweet/FUN-UNUSUAL/AppleWworm.gif"/>
          <p:cNvPicPr/>
          <p:nvPr/>
        </p:nvPicPr>
        <p:blipFill>
          <a:blip r:embed="rId4"/>
          <a:stretch/>
        </p:blipFill>
        <p:spPr>
          <a:xfrm>
            <a:off x="5943600" y="167652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wtv-zone.com/tweet/FUN-UNUSUAL/AppleWworm.gif"/>
          <p:cNvPicPr/>
          <p:nvPr/>
        </p:nvPicPr>
        <p:blipFill>
          <a:blip r:embed="rId5"/>
          <a:stretch/>
        </p:blipFill>
        <p:spPr>
          <a:xfrm>
            <a:off x="2057400" y="1143000"/>
            <a:ext cx="1343160" cy="162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wtv-zone.com/tweet/FUN-UNUSUAL/AppleWworm.gif"/>
          <p:cNvPicPr/>
          <p:nvPr/>
        </p:nvPicPr>
        <p:blipFill>
          <a:blip r:embed="rId6"/>
          <a:stretch/>
        </p:blipFill>
        <p:spPr>
          <a:xfrm>
            <a:off x="5181480" y="3200400"/>
            <a:ext cx="137160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wtv-zone.com/tweet/FUN-UNUSUAL/AppleWworm.gif"/>
          <p:cNvPicPr/>
          <p:nvPr/>
        </p:nvPicPr>
        <p:blipFill>
          <a:blip r:embed="rId7"/>
          <a:stretch/>
        </p:blipFill>
        <p:spPr>
          <a:xfrm>
            <a:off x="1676520" y="2971800"/>
            <a:ext cx="144756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44"/>
          <p:cNvGrpSpPr/>
          <p:nvPr/>
        </p:nvGrpSpPr>
        <p:grpSpPr>
          <a:xfrm>
            <a:off x="114480" y="1676520"/>
            <a:ext cx="1676160" cy="1676160"/>
            <a:chOff x="114480" y="1676520"/>
            <a:chExt cx="1676160" cy="1676160"/>
          </a:xfrm>
        </p:grpSpPr>
        <p:pic>
          <p:nvPicPr>
            <p:cNvPr id="137" name="Picture 8" descr="Картинка 1184 из 82995"/>
            <p:cNvPicPr/>
            <p:nvPr/>
          </p:nvPicPr>
          <p:blipFill>
            <a:blip r:embed="rId8"/>
            <a:stretch/>
          </p:blipFill>
          <p:spPr>
            <a:xfrm>
              <a:off x="114480" y="16765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4"/>
            <p:cNvSpPr/>
            <p:nvPr/>
          </p:nvSpPr>
          <p:spPr>
            <a:xfrm>
              <a:off x="380880" y="22096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</a:rPr>
                <a:t>щу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55"/>
          <p:cNvGrpSpPr/>
          <p:nvPr/>
        </p:nvGrpSpPr>
        <p:grpSpPr>
          <a:xfrm>
            <a:off x="1219320" y="2666880"/>
            <a:ext cx="2286000" cy="2286000"/>
            <a:chOff x="1219320" y="2666880"/>
            <a:chExt cx="2286000" cy="2286000"/>
          </a:xfrm>
        </p:grpSpPr>
        <p:pic>
          <p:nvPicPr>
            <p:cNvPr id="140" name="Picture 8" descr="Картинка 1184 из 82995"/>
            <p:cNvPicPr/>
            <p:nvPr/>
          </p:nvPicPr>
          <p:blipFill>
            <a:blip r:embed="rId9"/>
            <a:stretch/>
          </p:blipFill>
          <p:spPr>
            <a:xfrm>
              <a:off x="1219320" y="26668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17"/>
            <p:cNvSpPr/>
            <p:nvPr/>
          </p:nvSpPr>
          <p:spPr>
            <a:xfrm>
              <a:off x="1679760" y="350496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чюла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56"/>
          <p:cNvGrpSpPr/>
          <p:nvPr/>
        </p:nvGrpSpPr>
        <p:grpSpPr>
          <a:xfrm>
            <a:off x="4648320" y="3048120"/>
            <a:ext cx="2514600" cy="1981080"/>
            <a:chOff x="4648320" y="3048120"/>
            <a:chExt cx="2514600" cy="1981080"/>
          </a:xfrm>
        </p:grpSpPr>
        <p:pic>
          <p:nvPicPr>
            <p:cNvPr id="143" name="Picture 8" descr="Картинка 1184 из 82995"/>
            <p:cNvPicPr/>
            <p:nvPr/>
          </p:nvPicPr>
          <p:blipFill>
            <a:blip r:embed="rId10"/>
            <a:stretch/>
          </p:blipFill>
          <p:spPr>
            <a:xfrm>
              <a:off x="4648320" y="3048120"/>
              <a:ext cx="2514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Прямоугольник 31"/>
            <p:cNvSpPr/>
            <p:nvPr/>
          </p:nvSpPr>
          <p:spPr>
            <a:xfrm>
              <a:off x="5110920" y="3809880"/>
              <a:ext cx="175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счясть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53"/>
          <p:cNvGrpSpPr/>
          <p:nvPr/>
        </p:nvGrpSpPr>
        <p:grpSpPr>
          <a:xfrm>
            <a:off x="1447920" y="914400"/>
            <a:ext cx="2286000" cy="2057400"/>
            <a:chOff x="1447920" y="914400"/>
            <a:chExt cx="2286000" cy="2057400"/>
          </a:xfrm>
        </p:grpSpPr>
        <p:pic>
          <p:nvPicPr>
            <p:cNvPr id="146" name="Picture 8" descr="Картинка 1184 из 82995"/>
            <p:cNvPicPr/>
            <p:nvPr/>
          </p:nvPicPr>
          <p:blipFill>
            <a:blip r:embed="rId11"/>
            <a:stretch/>
          </p:blipFill>
          <p:spPr>
            <a:xfrm>
              <a:off x="1447920" y="914400"/>
              <a:ext cx="2286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19"/>
            <p:cNvSpPr/>
            <p:nvPr/>
          </p:nvSpPr>
          <p:spPr>
            <a:xfrm>
              <a:off x="1828800" y="1627200"/>
              <a:ext cx="187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Times New Roman"/>
                </a:rPr>
                <a:t>пищя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54"/>
          <p:cNvGrpSpPr/>
          <p:nvPr/>
        </p:nvGrpSpPr>
        <p:grpSpPr>
          <a:xfrm>
            <a:off x="5562720" y="1600200"/>
            <a:ext cx="2057400" cy="1905120"/>
            <a:chOff x="5562720" y="1600200"/>
            <a:chExt cx="2057400" cy="1905120"/>
          </a:xfrm>
        </p:grpSpPr>
        <p:pic>
          <p:nvPicPr>
            <p:cNvPr id="149" name="Picture 8" descr="Картинка 1184 из 82995"/>
            <p:cNvPicPr/>
            <p:nvPr/>
          </p:nvPicPr>
          <p:blipFill>
            <a:blip r:embed="rId12"/>
            <a:stretch/>
          </p:blipFill>
          <p:spPr>
            <a:xfrm>
              <a:off x="5562720" y="1600200"/>
              <a:ext cx="2057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Прямоугольник 35"/>
            <p:cNvSpPr/>
            <p:nvPr/>
          </p:nvSpPr>
          <p:spPr>
            <a:xfrm>
              <a:off x="5954040" y="220968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тащ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38"/>
          <p:cNvGrpSpPr/>
          <p:nvPr/>
        </p:nvGrpSpPr>
        <p:grpSpPr>
          <a:xfrm>
            <a:off x="4000680" y="1066680"/>
            <a:ext cx="1828800" cy="1828800"/>
            <a:chOff x="4000680" y="1066680"/>
            <a:chExt cx="1828800" cy="1828800"/>
          </a:xfrm>
        </p:grpSpPr>
        <p:pic>
          <p:nvPicPr>
            <p:cNvPr id="152" name="Picture 8" descr="Картинка 1184 из 82995"/>
            <p:cNvPicPr/>
            <p:nvPr/>
          </p:nvPicPr>
          <p:blipFill>
            <a:blip r:embed="rId13"/>
            <a:stretch/>
          </p:blipFill>
          <p:spPr>
            <a:xfrm>
              <a:off x="4000680" y="10666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13"/>
            <p:cNvSpPr/>
            <p:nvPr/>
          </p:nvSpPr>
          <p:spPr>
            <a:xfrm>
              <a:off x="4350600" y="15238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</a:rPr>
                <a:t>рощ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41"/>
          <p:cNvGrpSpPr/>
          <p:nvPr/>
        </p:nvGrpSpPr>
        <p:grpSpPr>
          <a:xfrm>
            <a:off x="7315200" y="2209680"/>
            <a:ext cx="1828800" cy="1828800"/>
            <a:chOff x="7315200" y="2209680"/>
            <a:chExt cx="1828800" cy="1828800"/>
          </a:xfrm>
        </p:grpSpPr>
        <p:pic>
          <p:nvPicPr>
            <p:cNvPr id="155" name="Picture 8" descr="Картинка 1184 из 82995"/>
            <p:cNvPicPr/>
            <p:nvPr/>
          </p:nvPicPr>
          <p:blipFill>
            <a:blip r:embed="rId14"/>
            <a:stretch/>
          </p:blipFill>
          <p:spPr>
            <a:xfrm>
              <a:off x="7315200" y="22096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6"/>
            <p:cNvSpPr/>
            <p:nvPr/>
          </p:nvSpPr>
          <p:spPr>
            <a:xfrm>
              <a:off x="7696080" y="2819160"/>
              <a:ext cx="114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Times New Roman"/>
                </a:rPr>
                <a:t>чуд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1" descr=""/>
          <p:cNvPicPr/>
          <p:nvPr/>
        </p:nvPicPr>
        <p:blipFill>
          <a:blip r:embed="rId15"/>
          <a:stretch/>
        </p:blipFill>
        <p:spPr>
          <a:xfrm>
            <a:off x="1219320" y="5562720"/>
            <a:ext cx="6162480" cy="150480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алее 36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>
            <a:off x="7089480" y="60948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>
            <a:off x="231840" y="533520"/>
            <a:ext cx="178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щ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7096320" y="609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0"/>
          <p:cNvSpPr/>
          <p:nvPr/>
        </p:nvSpPr>
        <p:spPr>
          <a:xfrm>
            <a:off x="233640" y="533520"/>
            <a:ext cx="17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чваканье1.wav" descr=""/>
          <p:cNvPicPr/>
          <p:nvPr/>
        </p:nvPicPr>
        <p:blipFill>
          <a:blip r:embed="rId16"/>
          <a:stretch/>
        </p:blipFill>
        <p:spPr>
          <a:xfrm>
            <a:off x="-129528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чваканье1.wav" descr=""/>
          <p:cNvPicPr/>
          <p:nvPr/>
        </p:nvPicPr>
        <p:blipFill>
          <a:blip r:embed="rId17"/>
          <a:stretch/>
        </p:blipFill>
        <p:spPr>
          <a:xfrm>
            <a:off x="-137160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чваканье1.wav" descr=""/>
          <p:cNvPicPr/>
          <p:nvPr/>
        </p:nvPicPr>
        <p:blipFill>
          <a:blip r:embed="rId18"/>
          <a:stretch/>
        </p:blipFill>
        <p:spPr>
          <a:xfrm>
            <a:off x="-152388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чваканье1.wav" descr=""/>
          <p:cNvPicPr/>
          <p:nvPr/>
        </p:nvPicPr>
        <p:blipFill>
          <a:blip r:embed="rId19"/>
          <a:stretch/>
        </p:blipFill>
        <p:spPr>
          <a:xfrm>
            <a:off x="-1752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50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625 0.45 E">
                                      <p:cBhvr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4166 0.3 E">
                                      <p:cBhvr>
                                        <p:cTn id="18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25 0.36666 E">
                                      <p:cBhvr>
                                        <p:cTn id="19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02083 0.46667 E">
                                      <p:cBhvr>
                                        <p:cTn id="20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2977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977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5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2977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5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297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1"/>
          <p:cNvSpPr/>
          <p:nvPr/>
        </p:nvSpPr>
        <p:spPr>
          <a:xfrm>
            <a:off x="4495680" y="1905120"/>
            <a:ext cx="3962520" cy="16761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</a:rPr>
              <a:t>ЧА - Щ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2"/>
          <p:cNvSpPr/>
          <p:nvPr/>
        </p:nvSpPr>
        <p:spPr>
          <a:xfrm>
            <a:off x="4495680" y="4267080"/>
            <a:ext cx="3962520" cy="16765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</a:rPr>
              <a:t>ЧУ - Щ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586320" y="3352680"/>
            <a:ext cx="8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"/>
          <p:cNvSpPr/>
          <p:nvPr/>
        </p:nvSpPr>
        <p:spPr>
          <a:xfrm>
            <a:off x="914400" y="2057400"/>
            <a:ext cx="1523880" cy="1295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5"/>
          <p:cNvSpPr/>
          <p:nvPr/>
        </p:nvSpPr>
        <p:spPr>
          <a:xfrm>
            <a:off x="990720" y="4495680"/>
            <a:ext cx="1523880" cy="1295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право 6"/>
          <p:cNvSpPr/>
          <p:nvPr/>
        </p:nvSpPr>
        <p:spPr>
          <a:xfrm rot="1889400">
            <a:off x="2657520" y="3038040"/>
            <a:ext cx="990720" cy="533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eeece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право 7"/>
          <p:cNvSpPr/>
          <p:nvPr/>
        </p:nvSpPr>
        <p:spPr>
          <a:xfrm rot="19843200">
            <a:off x="2657160" y="4475160"/>
            <a:ext cx="990720" cy="533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eeece1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Группа 12"/>
          <p:cNvGrpSpPr/>
          <p:nvPr/>
        </p:nvGrpSpPr>
        <p:grpSpPr>
          <a:xfrm>
            <a:off x="4495680" y="1905120"/>
            <a:ext cx="3962520" cy="1676160"/>
            <a:chOff x="4495680" y="1905120"/>
            <a:chExt cx="3962520" cy="1676160"/>
          </a:xfrm>
        </p:grpSpPr>
        <p:sp>
          <p:nvSpPr>
            <p:cNvPr id="175" name="Скругленный прямоугольник 9"/>
            <p:cNvSpPr/>
            <p:nvPr/>
          </p:nvSpPr>
          <p:spPr>
            <a:xfrm>
              <a:off x="4495680" y="1905120"/>
              <a:ext cx="3962520" cy="167616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1908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Равнобедренный треугольник 11"/>
            <p:cNvSpPr/>
            <p:nvPr/>
          </p:nvSpPr>
          <p:spPr>
            <a:xfrm>
              <a:off x="4647960" y="2057400"/>
              <a:ext cx="75960" cy="1522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14"/>
          <p:cNvGrpSpPr/>
          <p:nvPr/>
        </p:nvGrpSpPr>
        <p:grpSpPr>
          <a:xfrm>
            <a:off x="4495680" y="4267080"/>
            <a:ext cx="3962520" cy="1676520"/>
            <a:chOff x="4495680" y="4267080"/>
            <a:chExt cx="3962520" cy="1676520"/>
          </a:xfrm>
        </p:grpSpPr>
        <p:sp>
          <p:nvSpPr>
            <p:cNvPr id="178" name="Скругленный прямоугольник 10"/>
            <p:cNvSpPr/>
            <p:nvPr/>
          </p:nvSpPr>
          <p:spPr>
            <a:xfrm>
              <a:off x="4495680" y="4267080"/>
              <a:ext cx="3962520" cy="167652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1908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Равнобедренный треугольник 13"/>
            <p:cNvSpPr/>
            <p:nvPr/>
          </p:nvSpPr>
          <p:spPr>
            <a:xfrm>
              <a:off x="4571640" y="441936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Рисунок 2" descr="MCj04281130000[1]"/>
          <p:cNvPicPr/>
          <p:nvPr/>
        </p:nvPicPr>
        <p:blipFill>
          <a:blip r:embed="rId1"/>
          <a:stretch/>
        </p:blipFill>
        <p:spPr>
          <a:xfrm>
            <a:off x="304920" y="228600"/>
            <a:ext cx="1523880" cy="1454040"/>
          </a:xfrm>
          <a:prstGeom prst="rect">
            <a:avLst/>
          </a:prstGeom>
          <a:ln w="0">
            <a:noFill/>
          </a:ln>
        </p:spPr>
      </p:pic>
      <p:sp>
        <p:nvSpPr>
          <p:cNvPr id="181" name="Управляющая кнопка: возврат 16">
            <a:hlinkClick r:id="rId2" action="ppaction://hlinksldjump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493"/>
                </a:moveTo>
                <a:lnTo>
                  <a:pt x="23476" y="7493"/>
                </a:lnTo>
                <a:lnTo>
                  <a:pt x="23476" y="12828"/>
                </a:lnTo>
                <a:cubicBezTo>
                  <a:pt x="23476" y="13751"/>
                  <a:pt x="24276" y="14482"/>
                  <a:pt x="25312" y="14482"/>
                </a:cubicBezTo>
                <a:lnTo>
                  <a:pt x="26975" y="14482"/>
                </a:lnTo>
                <a:cubicBezTo>
                  <a:pt x="28010" y="14482"/>
                  <a:pt x="28811" y="13751"/>
                  <a:pt x="28811" y="12828"/>
                </a:cubicBezTo>
                <a:lnTo>
                  <a:pt x="28811" y="7493"/>
                </a:lnTo>
                <a:lnTo>
                  <a:pt x="26975" y="7493"/>
                </a:lnTo>
                <a:lnTo>
                  <a:pt x="30482" y="3985"/>
                </a:lnTo>
                <a:lnTo>
                  <a:pt x="34155" y="7493"/>
                </a:lnTo>
                <a:lnTo>
                  <a:pt x="32319" y="7493"/>
                </a:lnTo>
                <a:lnTo>
                  <a:pt x="32319" y="12828"/>
                </a:lnTo>
                <a:cubicBezTo>
                  <a:pt x="32319" y="15596"/>
                  <a:pt x="29742" y="18155"/>
                  <a:pt x="26975" y="18155"/>
                </a:cubicBezTo>
                <a:lnTo>
                  <a:pt x="25312" y="18155"/>
                </a:lnTo>
                <a:cubicBezTo>
                  <a:pt x="22544" y="18155"/>
                  <a:pt x="19968" y="15596"/>
                  <a:pt x="19968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Группа 21"/>
          <p:cNvGrpSpPr/>
          <p:nvPr/>
        </p:nvGrpSpPr>
        <p:grpSpPr>
          <a:xfrm>
            <a:off x="2514600" y="247320"/>
            <a:ext cx="5643720" cy="1191240"/>
            <a:chOff x="2514600" y="247320"/>
            <a:chExt cx="5643720" cy="1191240"/>
          </a:xfrm>
        </p:grpSpPr>
        <p:sp>
          <p:nvSpPr>
            <p:cNvPr id="183" name="Rectangle 2"/>
            <p:cNvSpPr/>
            <p:nvPr/>
          </p:nvSpPr>
          <p:spPr>
            <a:xfrm>
              <a:off x="2514600" y="24732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"/>
                </a:rPr>
                <a:t>сформулируй правил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20"/>
            <p:cNvSpPr/>
            <p:nvPr/>
          </p:nvSpPr>
          <p:spPr>
            <a:xfrm>
              <a:off x="2514600" y="380880"/>
              <a:ext cx="56437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Группа 36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pic>
          <p:nvPicPr>
            <p:cNvPr id="186" name="Picture 4" descr="Картинка 436 из 176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Картинка 2 из 376337"/>
            <p:cNvPicPr/>
            <p:nvPr/>
          </p:nvPicPr>
          <p:blipFill>
            <a:blip r:embed="rId2"/>
            <a:stretch/>
          </p:blipFill>
          <p:spPr>
            <a:xfrm rot="916200">
              <a:off x="394920" y="675000"/>
              <a:ext cx="3276720" cy="344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2" descr="http://grib.forest.ru/mushr/krasniy.jpg"/>
          <p:cNvPicPr/>
          <p:nvPr/>
        </p:nvPicPr>
        <p:blipFill>
          <a:blip r:embed="rId3"/>
          <a:stretch/>
        </p:blipFill>
        <p:spPr>
          <a:xfrm>
            <a:off x="1676520" y="480060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grib.forest.ru/mushr/krasniy.jpg"/>
          <p:cNvPicPr/>
          <p:nvPr/>
        </p:nvPicPr>
        <p:blipFill>
          <a:blip r:embed="rId4"/>
          <a:stretch/>
        </p:blipFill>
        <p:spPr>
          <a:xfrm>
            <a:off x="7315200" y="4724280"/>
            <a:ext cx="1386000" cy="17067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0"/>
          <p:cNvSpPr/>
          <p:nvPr/>
        </p:nvSpPr>
        <p:spPr>
          <a:xfrm>
            <a:off x="3809880" y="53352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икогда в таких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пишите мягкий зна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grib.forest.ru/mushr/krasniy.jpg"/>
          <p:cNvPicPr/>
          <p:nvPr/>
        </p:nvPicPr>
        <p:blipFill>
          <a:blip r:embed="rId5"/>
          <a:stretch/>
        </p:blipFill>
        <p:spPr>
          <a:xfrm>
            <a:off x="3733920" y="2666880"/>
            <a:ext cx="1600200" cy="1752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grib.forest.ru/mushr/krasniy.jpg"/>
          <p:cNvPicPr/>
          <p:nvPr/>
        </p:nvPicPr>
        <p:blipFill>
          <a:blip r:embed="rId6"/>
          <a:stretch/>
        </p:blipFill>
        <p:spPr>
          <a:xfrm>
            <a:off x="152280" y="4267080"/>
            <a:ext cx="1600200" cy="175284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46"/>
          <p:cNvGrpSpPr/>
          <p:nvPr/>
        </p:nvGrpSpPr>
        <p:grpSpPr>
          <a:xfrm>
            <a:off x="7391520" y="2819520"/>
            <a:ext cx="1600200" cy="1752480"/>
            <a:chOff x="7391520" y="2819520"/>
            <a:chExt cx="1600200" cy="1752480"/>
          </a:xfrm>
        </p:grpSpPr>
        <p:pic>
          <p:nvPicPr>
            <p:cNvPr id="194" name="Picture 4" descr="C:\Documents and Settings\Admin\Мои документы\Мои рисунки\Рисунок1.png"/>
            <p:cNvPicPr/>
            <p:nvPr/>
          </p:nvPicPr>
          <p:blipFill>
            <a:blip r:embed="rId7"/>
            <a:stretch/>
          </p:blipFill>
          <p:spPr>
            <a:xfrm>
              <a:off x="7391520" y="2819520"/>
              <a:ext cx="1600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Прямоугольник 45"/>
            <p:cNvSpPr/>
            <p:nvPr/>
          </p:nvSpPr>
          <p:spPr>
            <a:xfrm>
              <a:off x="7701840" y="2905560"/>
              <a:ext cx="97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точ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Группа 49"/>
          <p:cNvGrpSpPr/>
          <p:nvPr/>
        </p:nvGrpSpPr>
        <p:grpSpPr>
          <a:xfrm>
            <a:off x="5562720" y="1981080"/>
            <a:ext cx="2209680" cy="2454480"/>
            <a:chOff x="5562720" y="1981080"/>
            <a:chExt cx="2209680" cy="2454480"/>
          </a:xfrm>
        </p:grpSpPr>
        <p:pic>
          <p:nvPicPr>
            <p:cNvPr id="197" name="Picture 2" descr=""/>
            <p:cNvPicPr/>
            <p:nvPr/>
          </p:nvPicPr>
          <p:blipFill>
            <a:blip r:embed="rId8">
              <a:lum bright="10000"/>
            </a:blip>
            <a:stretch/>
          </p:blipFill>
          <p:spPr>
            <a:xfrm>
              <a:off x="5562720" y="1981080"/>
              <a:ext cx="220968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Прямоугольник 47"/>
            <p:cNvSpPr/>
            <p:nvPr/>
          </p:nvSpPr>
          <p:spPr>
            <a:xfrm>
              <a:off x="5952240" y="24382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Arial Narrow"/>
                </a:rPr>
                <a:t>овощ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2"/>
          <p:cNvGrpSpPr/>
          <p:nvPr/>
        </p:nvGrpSpPr>
        <p:grpSpPr>
          <a:xfrm>
            <a:off x="5181480" y="4572000"/>
            <a:ext cx="1752840" cy="1928880"/>
            <a:chOff x="5181480" y="4572000"/>
            <a:chExt cx="1752840" cy="1928880"/>
          </a:xfrm>
        </p:grpSpPr>
        <p:pic>
          <p:nvPicPr>
            <p:cNvPr id="200" name="Picture 3" descr="9869b631387d"/>
            <p:cNvPicPr/>
            <p:nvPr/>
          </p:nvPicPr>
          <p:blipFill>
            <a:blip r:embed="rId9"/>
            <a:stretch/>
          </p:blipFill>
          <p:spPr>
            <a:xfrm>
              <a:off x="5181480" y="4572000"/>
              <a:ext cx="175284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Прямоугольник 50"/>
            <p:cNvSpPr/>
            <p:nvPr/>
          </p:nvSpPr>
          <p:spPr>
            <a:xfrm>
              <a:off x="5493960" y="4647960"/>
              <a:ext cx="12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 Narrow"/>
                </a:rPr>
                <a:t>ноч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Прямоугольник 56"/>
          <p:cNvSpPr/>
          <p:nvPr/>
        </p:nvSpPr>
        <p:spPr>
          <a:xfrm>
            <a:off x="2977920" y="60958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по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чт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9"/>
          <p:cNvSpPr/>
          <p:nvPr/>
        </p:nvSpPr>
        <p:spPr>
          <a:xfrm>
            <a:off x="387360" y="586728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бо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чк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3"/>
          <p:cNvSpPr/>
          <p:nvPr/>
        </p:nvSpPr>
        <p:spPr>
          <a:xfrm>
            <a:off x="6705720" y="6095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ру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чн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71"/>
          <p:cNvGrpSpPr/>
          <p:nvPr/>
        </p:nvGrpSpPr>
        <p:grpSpPr>
          <a:xfrm>
            <a:off x="3505320" y="4495680"/>
            <a:ext cx="1676160" cy="1752840"/>
            <a:chOff x="3505320" y="4495680"/>
            <a:chExt cx="1676160" cy="1752840"/>
          </a:xfrm>
        </p:grpSpPr>
        <p:pic>
          <p:nvPicPr>
            <p:cNvPr id="206" name="Picture 4" descr="C:\Documents and Settings\Admin\Мои документы\Мои рисунки\Рисунок1.png"/>
            <p:cNvPicPr/>
            <p:nvPr/>
          </p:nvPicPr>
          <p:blipFill>
            <a:blip r:embed="rId10"/>
            <a:stretch/>
          </p:blipFill>
          <p:spPr>
            <a:xfrm>
              <a:off x="3505320" y="4495680"/>
              <a:ext cx="167616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Прямоугольник 64"/>
            <p:cNvSpPr/>
            <p:nvPr/>
          </p:nvSpPr>
          <p:spPr>
            <a:xfrm>
              <a:off x="3816360" y="464796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поч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68"/>
          <p:cNvGrpSpPr/>
          <p:nvPr/>
        </p:nvGrpSpPr>
        <p:grpSpPr>
          <a:xfrm>
            <a:off x="1295280" y="380880"/>
            <a:ext cx="2210040" cy="2454480"/>
            <a:chOff x="1295280" y="380880"/>
            <a:chExt cx="2210040" cy="2454480"/>
          </a:xfrm>
        </p:grpSpPr>
        <p:pic>
          <p:nvPicPr>
            <p:cNvPr id="209" name="Picture 2" descr=""/>
            <p:cNvPicPr/>
            <p:nvPr/>
          </p:nvPicPr>
          <p:blipFill>
            <a:blip r:embed="rId11">
              <a:lum bright="10000"/>
            </a:blip>
            <a:stretch/>
          </p:blipFill>
          <p:spPr>
            <a:xfrm>
              <a:off x="1295280" y="380880"/>
              <a:ext cx="2210040" cy="24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Прямоугольник 70"/>
            <p:cNvSpPr/>
            <p:nvPr/>
          </p:nvSpPr>
          <p:spPr>
            <a:xfrm>
              <a:off x="1684800" y="8380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Arial Narrow"/>
                </a:rPr>
                <a:t>овощ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65"/>
          <p:cNvGrpSpPr/>
          <p:nvPr/>
        </p:nvGrpSpPr>
        <p:grpSpPr>
          <a:xfrm>
            <a:off x="457200" y="1676520"/>
            <a:ext cx="1600200" cy="1752480"/>
            <a:chOff x="457200" y="1676520"/>
            <a:chExt cx="1600200" cy="1752480"/>
          </a:xfrm>
        </p:grpSpPr>
        <p:pic>
          <p:nvPicPr>
            <p:cNvPr id="212" name="Picture 4" descr="C:\Documents and Settings\Admin\Мои документы\Мои рисунки\Рисунок1.png"/>
            <p:cNvPicPr/>
            <p:nvPr/>
          </p:nvPicPr>
          <p:blipFill>
            <a:blip r:embed="rId12">
              <a:lum bright="10000"/>
            </a:blip>
            <a:stretch/>
          </p:blipFill>
          <p:spPr>
            <a:xfrm>
              <a:off x="457200" y="1676520"/>
              <a:ext cx="16002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67"/>
            <p:cNvSpPr/>
            <p:nvPr/>
          </p:nvSpPr>
          <p:spPr>
            <a:xfrm>
              <a:off x="767520" y="1762560"/>
              <a:ext cx="97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точ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рямоугольник 76"/>
          <p:cNvSpPr/>
          <p:nvPr/>
        </p:nvSpPr>
        <p:spPr>
          <a:xfrm>
            <a:off x="4809240" y="403848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пте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нч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79"/>
          <p:cNvGrpSpPr/>
          <p:nvPr/>
        </p:nvGrpSpPr>
        <p:grpSpPr>
          <a:xfrm>
            <a:off x="1905120" y="1752480"/>
            <a:ext cx="1752480" cy="1928880"/>
            <a:chOff x="1905120" y="1752480"/>
            <a:chExt cx="1752480" cy="1928880"/>
          </a:xfrm>
        </p:grpSpPr>
        <p:pic>
          <p:nvPicPr>
            <p:cNvPr id="216" name="Picture 3" descr="9869b631387d"/>
            <p:cNvPicPr/>
            <p:nvPr/>
          </p:nvPicPr>
          <p:blipFill>
            <a:blip r:embed="rId13">
              <a:lum bright="10000"/>
            </a:blip>
            <a:stretch/>
          </p:blipFill>
          <p:spPr>
            <a:xfrm>
              <a:off x="1905120" y="1752480"/>
              <a:ext cx="175248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Прямоугольник 81"/>
            <p:cNvSpPr/>
            <p:nvPr/>
          </p:nvSpPr>
          <p:spPr>
            <a:xfrm>
              <a:off x="2217240" y="1828440"/>
              <a:ext cx="12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 Narrow"/>
                </a:rPr>
                <a:t>ноч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72"/>
          <p:cNvGrpSpPr/>
          <p:nvPr/>
        </p:nvGrpSpPr>
        <p:grpSpPr>
          <a:xfrm>
            <a:off x="990720" y="2286000"/>
            <a:ext cx="1676160" cy="1752480"/>
            <a:chOff x="990720" y="2286000"/>
            <a:chExt cx="1676160" cy="1752480"/>
          </a:xfrm>
        </p:grpSpPr>
        <p:pic>
          <p:nvPicPr>
            <p:cNvPr id="219" name="Picture 4" descr="C:\Documents and Settings\Admin\Мои документы\Мои рисунки\Рисунок1.png"/>
            <p:cNvPicPr/>
            <p:nvPr/>
          </p:nvPicPr>
          <p:blipFill>
            <a:blip r:embed="rId14">
              <a:lum bright="10000"/>
            </a:blip>
            <a:stretch/>
          </p:blipFill>
          <p:spPr>
            <a:xfrm>
              <a:off x="990720" y="2286000"/>
              <a:ext cx="16761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Прямоугольник 74"/>
            <p:cNvSpPr/>
            <p:nvPr/>
          </p:nvSpPr>
          <p:spPr>
            <a:xfrm>
              <a:off x="1301760" y="243828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поч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Picture 3" descr=""/>
          <p:cNvPicPr/>
          <p:nvPr/>
        </p:nvPicPr>
        <p:blipFill>
          <a:blip r:embed="rId15"/>
          <a:stretch/>
        </p:blipFill>
        <p:spPr>
          <a:xfrm>
            <a:off x="228600" y="2362320"/>
            <a:ext cx="36100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61"/>
          <p:cNvGrpSpPr/>
          <p:nvPr/>
        </p:nvGrpSpPr>
        <p:grpSpPr>
          <a:xfrm>
            <a:off x="0" y="4114800"/>
            <a:ext cx="1828800" cy="1969920"/>
            <a:chOff x="0" y="4114800"/>
            <a:chExt cx="1828800" cy="1969920"/>
          </a:xfrm>
        </p:grpSpPr>
        <p:pic>
          <p:nvPicPr>
            <p:cNvPr id="223" name="Picture 4" descr="C:\Documents and Settings\Admin\Мои документы\Мои рисунки\Рисунок1.png"/>
            <p:cNvPicPr/>
            <p:nvPr/>
          </p:nvPicPr>
          <p:blipFill>
            <a:blip r:embed="rId16"/>
            <a:stretch/>
          </p:blipFill>
          <p:spPr>
            <a:xfrm>
              <a:off x="0" y="4114800"/>
              <a:ext cx="182880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Прямоугольник 55"/>
            <p:cNvSpPr/>
            <p:nvPr/>
          </p:nvSpPr>
          <p:spPr>
            <a:xfrm>
              <a:off x="312840" y="426708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бочь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Группа 52"/>
          <p:cNvGrpSpPr/>
          <p:nvPr/>
        </p:nvGrpSpPr>
        <p:grpSpPr>
          <a:xfrm>
            <a:off x="1600200" y="4695840"/>
            <a:ext cx="2438280" cy="2162160"/>
            <a:chOff x="1600200" y="4695840"/>
            <a:chExt cx="2438280" cy="2162160"/>
          </a:xfrm>
        </p:grpSpPr>
        <p:pic>
          <p:nvPicPr>
            <p:cNvPr id="226" name="Picture 5" descr="9869b631387d"/>
            <p:cNvPicPr/>
            <p:nvPr/>
          </p:nvPicPr>
          <p:blipFill>
            <a:blip r:embed="rId17"/>
            <a:stretch/>
          </p:blipFill>
          <p:spPr>
            <a:xfrm>
              <a:off x="1600200" y="4695840"/>
              <a:ext cx="24382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Прямоугольник 51"/>
            <p:cNvSpPr/>
            <p:nvPr/>
          </p:nvSpPr>
          <p:spPr>
            <a:xfrm>
              <a:off x="1933200" y="4771800"/>
              <a:ext cx="118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 Narrow"/>
                </a:rPr>
                <a:t>почь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78"/>
          <p:cNvGrpSpPr/>
          <p:nvPr/>
        </p:nvGrpSpPr>
        <p:grpSpPr>
          <a:xfrm>
            <a:off x="3657600" y="2438280"/>
            <a:ext cx="1905120" cy="2067120"/>
            <a:chOff x="3657600" y="2438280"/>
            <a:chExt cx="1905120" cy="2067120"/>
          </a:xfrm>
        </p:grpSpPr>
        <p:pic>
          <p:nvPicPr>
            <p:cNvPr id="229" name="Picture 2" descr=""/>
            <p:cNvPicPr/>
            <p:nvPr/>
          </p:nvPicPr>
          <p:blipFill>
            <a:blip r:embed="rId18"/>
            <a:stretch/>
          </p:blipFill>
          <p:spPr>
            <a:xfrm>
              <a:off x="3657600" y="2438280"/>
              <a:ext cx="1905120" cy="20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Прямоугольник 77"/>
            <p:cNvSpPr/>
            <p:nvPr/>
          </p:nvSpPr>
          <p:spPr>
            <a:xfrm>
              <a:off x="3820680" y="2514240"/>
              <a:ext cx="150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 Narrow"/>
                </a:rPr>
                <a:t>птеньч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82"/>
          <p:cNvGrpSpPr/>
          <p:nvPr/>
        </p:nvGrpSpPr>
        <p:grpSpPr>
          <a:xfrm>
            <a:off x="6858000" y="4343400"/>
            <a:ext cx="2066760" cy="2295360"/>
            <a:chOff x="6858000" y="4343400"/>
            <a:chExt cx="2066760" cy="2295360"/>
          </a:xfrm>
        </p:grpSpPr>
        <p:pic>
          <p:nvPicPr>
            <p:cNvPr id="232" name="Picture 2" descr=""/>
            <p:cNvPicPr/>
            <p:nvPr/>
          </p:nvPicPr>
          <p:blipFill>
            <a:blip r:embed="rId19">
              <a:lum bright="10000"/>
            </a:blip>
            <a:stretch/>
          </p:blipFill>
          <p:spPr>
            <a:xfrm>
              <a:off x="6858000" y="4343400"/>
              <a:ext cx="20667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75"/>
            <p:cNvSpPr/>
            <p:nvPr/>
          </p:nvSpPr>
          <p:spPr>
            <a:xfrm>
              <a:off x="7247520" y="4724280"/>
              <a:ext cx="14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Arial Narrow"/>
                </a:rPr>
                <a:t>ручь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Управляющая кнопка: далее 37">
            <a:hlinkClick r:id="" action="ppaction://hlinkshowjump?jump=nextslide"/>
          </p:cNvPr>
          <p:cNvSpPr/>
          <p:nvPr/>
        </p:nvSpPr>
        <p:spPr>
          <a:xfrm>
            <a:off x="8256600" y="6553080"/>
            <a:ext cx="887400" cy="304920"/>
          </a:xfrm>
          <a:custGeom>
            <a:avLst/>
            <a:gdLst>
              <a:gd name="textAreaLeft" fmla="*/ 19440 w 887400"/>
              <a:gd name="textAreaRight" fmla="*/ 867960 w 88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2813" h="21600">
                <a:moveTo>
                  <a:pt x="0" y="0"/>
                </a:moveTo>
                <a:lnTo>
                  <a:pt x="62813" y="0"/>
                </a:lnTo>
                <a:lnTo>
                  <a:pt x="62813" y="21600"/>
                </a:lnTo>
                <a:lnTo>
                  <a:pt x="0" y="21600"/>
                </a:lnTo>
                <a:close/>
              </a:path>
              <a:path fill="lightenLess" w="62813" h="21600">
                <a:moveTo>
                  <a:pt x="0" y="0"/>
                </a:moveTo>
                <a:lnTo>
                  <a:pt x="62813" y="0"/>
                </a:lnTo>
                <a:lnTo>
                  <a:pt x="61413" y="1400"/>
                </a:lnTo>
                <a:lnTo>
                  <a:pt x="1400" y="1400"/>
                </a:lnTo>
                <a:close/>
              </a:path>
              <a:path fill="darken" w="62813" h="21600">
                <a:moveTo>
                  <a:pt x="62813" y="0"/>
                </a:moveTo>
                <a:lnTo>
                  <a:pt x="62813" y="21600"/>
                </a:lnTo>
                <a:lnTo>
                  <a:pt x="61413" y="20200"/>
                </a:lnTo>
                <a:lnTo>
                  <a:pt x="61413" y="1400"/>
                </a:lnTo>
                <a:close/>
              </a:path>
              <a:path fill="darkenLess" w="62813" h="21600">
                <a:moveTo>
                  <a:pt x="628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13" y="20200"/>
                </a:lnTo>
                <a:close/>
              </a:path>
              <a:path fill="lighten" w="628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813" h="21600">
                <a:moveTo>
                  <a:pt x="24400" y="3794"/>
                </a:moveTo>
                <a:lnTo>
                  <a:pt x="38413" y="10800"/>
                </a:lnTo>
                <a:lnTo>
                  <a:pt x="244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смех мух.wav" descr=""/>
          <p:cNvPicPr/>
          <p:nvPr/>
        </p:nvPicPr>
        <p:blipFill>
          <a:blip r:embed="rId20"/>
          <a:stretch/>
        </p:blipFill>
        <p:spPr>
          <a:xfrm>
            <a:off x="-11430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6" name="смех мух.wav" descr=""/>
          <p:cNvPicPr/>
          <p:nvPr/>
        </p:nvPicPr>
        <p:blipFill>
          <a:blip r:embed="rId21"/>
          <a:stretch/>
        </p:blipFill>
        <p:spPr>
          <a:xfrm>
            <a:off x="-1066680" y="762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смех мух.wav" descr=""/>
          <p:cNvPicPr/>
          <p:nvPr/>
        </p:nvPicPr>
        <p:blipFill>
          <a:blip r:embed="rId22"/>
          <a:stretch/>
        </p:blipFill>
        <p:spPr>
          <a:xfrm>
            <a:off x="-1066680" y="1295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смех мух.wav" descr=""/>
          <p:cNvPicPr/>
          <p:nvPr/>
        </p:nvPicPr>
        <p:blipFill>
          <a:blip r:embed="rId23"/>
          <a:stretch/>
        </p:blipFill>
        <p:spPr>
          <a:xfrm>
            <a:off x="-106668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50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2346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346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50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34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346"/>
                            </p:stCondLst>
                            <p:childTnLst>
                              <p:par>
                                <p:cTn id="3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5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23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346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3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346"/>
                            </p:stCondLst>
                            <p:childTnLst>
                              <p:par>
                                <p:cTn id="4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5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кругленный прямоугольник 19"/>
          <p:cNvSpPr/>
          <p:nvPr/>
        </p:nvSpPr>
        <p:spPr>
          <a:xfrm>
            <a:off x="990720" y="2362320"/>
            <a:ext cx="7543800" cy="27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ЧН,ЧК, НЧ, Щ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ИШ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БЕЗ МЯГКОГО ЗНА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4"/>
          <p:cNvSpPr/>
          <p:nvPr/>
        </p:nvSpPr>
        <p:spPr>
          <a:xfrm>
            <a:off x="990720" y="2438280"/>
            <a:ext cx="746748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ЧН    ЧК   НЧ   Щ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7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Группа 21"/>
          <p:cNvGrpSpPr/>
          <p:nvPr/>
        </p:nvGrpSpPr>
        <p:grpSpPr>
          <a:xfrm>
            <a:off x="2514600" y="247320"/>
            <a:ext cx="5643720" cy="1191240"/>
            <a:chOff x="2514600" y="247320"/>
            <a:chExt cx="5643720" cy="1191240"/>
          </a:xfrm>
        </p:grpSpPr>
        <p:sp>
          <p:nvSpPr>
            <p:cNvPr id="242" name="Rectangle 2"/>
            <p:cNvSpPr/>
            <p:nvPr/>
          </p:nvSpPr>
          <p:spPr>
            <a:xfrm>
              <a:off x="2514600" y="24732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"/>
                </a:rPr>
                <a:t>сформулируй правил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оугольник 20"/>
            <p:cNvSpPr/>
            <p:nvPr/>
          </p:nvSpPr>
          <p:spPr>
            <a:xfrm>
              <a:off x="2514600" y="380880"/>
              <a:ext cx="56437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Рисунок 2" descr="MCj04281130000[1]"/>
          <p:cNvPicPr/>
          <p:nvPr/>
        </p:nvPicPr>
        <p:blipFill>
          <a:blip r:embed="rId1"/>
          <a:stretch/>
        </p:blipFill>
        <p:spPr>
          <a:xfrm>
            <a:off x="399960" y="380880"/>
            <a:ext cx="1676520" cy="1600200"/>
          </a:xfrm>
          <a:prstGeom prst="rect">
            <a:avLst/>
          </a:prstGeom>
          <a:ln w="0">
            <a:noFill/>
          </a:ln>
        </p:spPr>
      </p:pic>
      <p:sp>
        <p:nvSpPr>
          <p:cNvPr id="245" name="Управляющая кнопка: возврат 7">
            <a:hlinkClick r:id="rId2" action="ppaction://hlinksldjump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7493"/>
                </a:moveTo>
                <a:lnTo>
                  <a:pt x="23476" y="7493"/>
                </a:lnTo>
                <a:lnTo>
                  <a:pt x="23476" y="12828"/>
                </a:lnTo>
                <a:cubicBezTo>
                  <a:pt x="23476" y="13751"/>
                  <a:pt x="24276" y="14482"/>
                  <a:pt x="25312" y="14482"/>
                </a:cubicBezTo>
                <a:lnTo>
                  <a:pt x="26975" y="14482"/>
                </a:lnTo>
                <a:cubicBezTo>
                  <a:pt x="28010" y="14482"/>
                  <a:pt x="28811" y="13751"/>
                  <a:pt x="28811" y="12828"/>
                </a:cubicBezTo>
                <a:lnTo>
                  <a:pt x="28811" y="7493"/>
                </a:lnTo>
                <a:lnTo>
                  <a:pt x="26975" y="7493"/>
                </a:lnTo>
                <a:lnTo>
                  <a:pt x="30482" y="3985"/>
                </a:lnTo>
                <a:lnTo>
                  <a:pt x="34155" y="7493"/>
                </a:lnTo>
                <a:lnTo>
                  <a:pt x="32319" y="7493"/>
                </a:lnTo>
                <a:lnTo>
                  <a:pt x="32319" y="12828"/>
                </a:lnTo>
                <a:cubicBezTo>
                  <a:pt x="32319" y="15596"/>
                  <a:pt x="29742" y="18155"/>
                  <a:pt x="26975" y="18155"/>
                </a:cubicBezTo>
                <a:lnTo>
                  <a:pt x="25312" y="18155"/>
                </a:lnTo>
                <a:cubicBezTo>
                  <a:pt x="22544" y="18155"/>
                  <a:pt x="19968" y="15596"/>
                  <a:pt x="19968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15"/>
          <p:cNvGrpSpPr/>
          <p:nvPr/>
        </p:nvGrpSpPr>
        <p:grpSpPr>
          <a:xfrm>
            <a:off x="0" y="0"/>
            <a:ext cx="9144000" cy="6875640"/>
            <a:chOff x="0" y="0"/>
            <a:chExt cx="9144000" cy="6875640"/>
          </a:xfrm>
        </p:grpSpPr>
        <p:pic>
          <p:nvPicPr>
            <p:cNvPr id="247" name="Picture 6" descr="Картинка 46 из 2396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7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" descr="Картинка 19 из 7425"/>
            <p:cNvPicPr/>
            <p:nvPr/>
          </p:nvPicPr>
          <p:blipFill>
            <a:blip r:embed="rId2"/>
            <a:stretch/>
          </p:blipFill>
          <p:spPr>
            <a:xfrm>
              <a:off x="0" y="16920"/>
              <a:ext cx="5867280" cy="37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Группа 8"/>
          <p:cNvGrpSpPr/>
          <p:nvPr/>
        </p:nvGrpSpPr>
        <p:grpSpPr>
          <a:xfrm>
            <a:off x="5715000" y="5257800"/>
            <a:ext cx="1447920" cy="1371600"/>
            <a:chOff x="5715000" y="5257800"/>
            <a:chExt cx="1447920" cy="1371600"/>
          </a:xfrm>
        </p:grpSpPr>
        <p:pic>
          <p:nvPicPr>
            <p:cNvPr id="250" name="Picture 4" descr="Картинка 389 из 201900"/>
            <p:cNvPicPr/>
            <p:nvPr/>
          </p:nvPicPr>
          <p:blipFill>
            <a:blip r:embed="rId3"/>
            <a:stretch/>
          </p:blipFill>
          <p:spPr>
            <a:xfrm>
              <a:off x="5715000" y="525780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Прямоугольник 7"/>
            <p:cNvSpPr/>
            <p:nvPr/>
          </p:nvSpPr>
          <p:spPr>
            <a:xfrm>
              <a:off x="5872680" y="5638680"/>
              <a:ext cx="111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ру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Группа 11"/>
          <p:cNvGrpSpPr/>
          <p:nvPr/>
        </p:nvGrpSpPr>
        <p:grpSpPr>
          <a:xfrm>
            <a:off x="1905120" y="5181480"/>
            <a:ext cx="1463760" cy="1371600"/>
            <a:chOff x="1905120" y="5181480"/>
            <a:chExt cx="1463760" cy="1371600"/>
          </a:xfrm>
        </p:grpSpPr>
        <p:pic>
          <p:nvPicPr>
            <p:cNvPr id="253" name="Picture 4" descr="Картинка 389 из 201900"/>
            <p:cNvPicPr/>
            <p:nvPr/>
          </p:nvPicPr>
          <p:blipFill>
            <a:blip r:embed="rId4"/>
            <a:stretch/>
          </p:blipFill>
          <p:spPr>
            <a:xfrm>
              <a:off x="1905120" y="5181480"/>
              <a:ext cx="1440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Прямоугольник 10"/>
            <p:cNvSpPr/>
            <p:nvPr/>
          </p:nvSpPr>
          <p:spPr>
            <a:xfrm>
              <a:off x="1910880" y="556236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щав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19"/>
          <p:cNvGrpSpPr/>
          <p:nvPr/>
        </p:nvGrpSpPr>
        <p:grpSpPr>
          <a:xfrm>
            <a:off x="7086600" y="533520"/>
            <a:ext cx="1447920" cy="1371600"/>
            <a:chOff x="7086600" y="533520"/>
            <a:chExt cx="1447920" cy="1371600"/>
          </a:xfrm>
        </p:grpSpPr>
        <p:pic>
          <p:nvPicPr>
            <p:cNvPr id="256" name="Picture 4" descr="Картинка 389 из 201900"/>
            <p:cNvPicPr/>
            <p:nvPr/>
          </p:nvPicPr>
          <p:blipFill>
            <a:blip r:embed="rId5"/>
            <a:stretch/>
          </p:blipFill>
          <p:spPr>
            <a:xfrm>
              <a:off x="7086600" y="53352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Прямоугольник 18"/>
            <p:cNvSpPr/>
            <p:nvPr/>
          </p:nvSpPr>
          <p:spPr>
            <a:xfrm>
              <a:off x="7169040" y="927000"/>
              <a:ext cx="119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груш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1"/>
          <p:cNvGrpSpPr/>
          <p:nvPr/>
        </p:nvGrpSpPr>
        <p:grpSpPr>
          <a:xfrm>
            <a:off x="5257800" y="2743200"/>
            <a:ext cx="1447920" cy="1371600"/>
            <a:chOff x="5257800" y="2743200"/>
            <a:chExt cx="1447920" cy="1371600"/>
          </a:xfrm>
        </p:grpSpPr>
        <p:pic>
          <p:nvPicPr>
            <p:cNvPr id="259" name="Picture 4" descr="Картинка 389 из 201900"/>
            <p:cNvPicPr/>
            <p:nvPr/>
          </p:nvPicPr>
          <p:blipFill>
            <a:blip r:embed="rId6"/>
            <a:stretch/>
          </p:blipFill>
          <p:spPr>
            <a:xfrm>
              <a:off x="5257800" y="274320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Прямоугольник 20"/>
            <p:cNvSpPr/>
            <p:nvPr/>
          </p:nvSpPr>
          <p:spPr>
            <a:xfrm>
              <a:off x="5339520" y="3124080"/>
              <a:ext cx="119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живо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30"/>
          <p:cNvGrpSpPr/>
          <p:nvPr/>
        </p:nvGrpSpPr>
        <p:grpSpPr>
          <a:xfrm>
            <a:off x="7467480" y="5029200"/>
            <a:ext cx="1447920" cy="1371600"/>
            <a:chOff x="7467480" y="5029200"/>
            <a:chExt cx="1447920" cy="1371600"/>
          </a:xfrm>
        </p:grpSpPr>
        <p:pic>
          <p:nvPicPr>
            <p:cNvPr id="262" name="Picture 4" descr="Картинка 389 из 201900"/>
            <p:cNvPicPr/>
            <p:nvPr/>
          </p:nvPicPr>
          <p:blipFill>
            <a:blip r:embed="rId7"/>
            <a:stretch/>
          </p:blipFill>
          <p:spPr>
            <a:xfrm>
              <a:off x="7467480" y="502920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Прямоугольник 29"/>
            <p:cNvSpPr/>
            <p:nvPr/>
          </p:nvSpPr>
          <p:spPr>
            <a:xfrm>
              <a:off x="7701120" y="5410080"/>
              <a:ext cx="95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хоч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6" descr=""/>
          <p:cNvPicPr/>
          <p:nvPr/>
        </p:nvPicPr>
        <p:blipFill>
          <a:blip r:embed="rId8"/>
          <a:stretch/>
        </p:blipFill>
        <p:spPr>
          <a:xfrm>
            <a:off x="0" y="457200"/>
            <a:ext cx="21240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Управляющая кнопка: далее 32">
            <a:hlinkClick r:id="" action="ppaction://hlinkshowjump?jump=nextslide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3"/>
          <p:cNvSpPr/>
          <p:nvPr/>
        </p:nvSpPr>
        <p:spPr>
          <a:xfrm>
            <a:off x="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 – ЩА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4"/>
          <p:cNvSpPr/>
          <p:nvPr/>
        </p:nvSpPr>
        <p:spPr>
          <a:xfrm>
            <a:off x="0" y="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 – ЩУ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5"/>
          <p:cNvSpPr/>
          <p:nvPr/>
        </p:nvSpPr>
        <p:spPr>
          <a:xfrm>
            <a:off x="0" y="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 – ШИ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6"/>
          <p:cNvSpPr/>
          <p:nvPr/>
        </p:nvSpPr>
        <p:spPr>
          <a:xfrm>
            <a:off x="0" y="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Н– ЧК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ШИ БЕЗ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7"/>
          <p:cNvSpPr/>
          <p:nvPr/>
        </p:nvSpPr>
        <p:spPr>
          <a:xfrm>
            <a:off x="312480" y="4419720"/>
            <a:ext cx="15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щу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8"/>
          <p:cNvSpPr/>
          <p:nvPr/>
        </p:nvSpPr>
        <p:spPr>
          <a:xfrm>
            <a:off x="3664800" y="45720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ши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9"/>
          <p:cNvSpPr/>
          <p:nvPr/>
        </p:nvSpPr>
        <p:spPr>
          <a:xfrm>
            <a:off x="7399080" y="23623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о</a:t>
            </a: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чн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1"/>
          <p:cNvSpPr/>
          <p:nvPr/>
        </p:nvSpPr>
        <p:spPr>
          <a:xfrm>
            <a:off x="7397640" y="3886200"/>
            <a:ext cx="12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ча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32"/>
          <p:cNvGrpSpPr/>
          <p:nvPr/>
        </p:nvGrpSpPr>
        <p:grpSpPr>
          <a:xfrm>
            <a:off x="304920" y="4038480"/>
            <a:ext cx="1532880" cy="1371600"/>
            <a:chOff x="304920" y="4038480"/>
            <a:chExt cx="1532880" cy="1371600"/>
          </a:xfrm>
        </p:grpSpPr>
        <p:pic>
          <p:nvPicPr>
            <p:cNvPr id="275" name="Picture 4" descr="Картинка 389 из 201900"/>
            <p:cNvPicPr/>
            <p:nvPr/>
          </p:nvPicPr>
          <p:blipFill>
            <a:blip r:embed="rId9"/>
            <a:stretch/>
          </p:blipFill>
          <p:spPr>
            <a:xfrm>
              <a:off x="304920" y="4038480"/>
              <a:ext cx="144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Прямоугольник 31"/>
            <p:cNvSpPr/>
            <p:nvPr/>
          </p:nvSpPr>
          <p:spPr>
            <a:xfrm>
              <a:off x="311400" y="4343040"/>
              <a:ext cx="152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щюр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25"/>
          <p:cNvGrpSpPr/>
          <p:nvPr/>
        </p:nvGrpSpPr>
        <p:grpSpPr>
          <a:xfrm>
            <a:off x="3581280" y="4191120"/>
            <a:ext cx="1447920" cy="1371600"/>
            <a:chOff x="3581280" y="4191120"/>
            <a:chExt cx="1447920" cy="1371600"/>
          </a:xfrm>
        </p:grpSpPr>
        <p:pic>
          <p:nvPicPr>
            <p:cNvPr id="278" name="Picture 4" descr="Картинка 389 из 201900"/>
            <p:cNvPicPr/>
            <p:nvPr/>
          </p:nvPicPr>
          <p:blipFill>
            <a:blip r:embed="rId10"/>
            <a:stretch/>
          </p:blipFill>
          <p:spPr>
            <a:xfrm>
              <a:off x="3581280" y="419112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Прямоугольник 24"/>
            <p:cNvSpPr/>
            <p:nvPr/>
          </p:nvSpPr>
          <p:spPr>
            <a:xfrm>
              <a:off x="3741120" y="4572000"/>
              <a:ext cx="125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шып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23"/>
          <p:cNvGrpSpPr/>
          <p:nvPr/>
        </p:nvGrpSpPr>
        <p:grpSpPr>
          <a:xfrm>
            <a:off x="7238880" y="3505320"/>
            <a:ext cx="1447920" cy="1371600"/>
            <a:chOff x="7238880" y="3505320"/>
            <a:chExt cx="1447920" cy="1371600"/>
          </a:xfrm>
        </p:grpSpPr>
        <p:pic>
          <p:nvPicPr>
            <p:cNvPr id="281" name="Picture 4" descr="Картинка 389 из 201900"/>
            <p:cNvPicPr/>
            <p:nvPr/>
          </p:nvPicPr>
          <p:blipFill>
            <a:blip r:embed="rId11"/>
            <a:stretch/>
          </p:blipFill>
          <p:spPr>
            <a:xfrm>
              <a:off x="7238880" y="3505320"/>
              <a:ext cx="1447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угольник 22"/>
            <p:cNvSpPr/>
            <p:nvPr/>
          </p:nvSpPr>
          <p:spPr>
            <a:xfrm>
              <a:off x="7396920" y="3886200"/>
              <a:ext cx="112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чяст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27"/>
          <p:cNvGrpSpPr/>
          <p:nvPr/>
        </p:nvGrpSpPr>
        <p:grpSpPr>
          <a:xfrm>
            <a:off x="7315200" y="1905120"/>
            <a:ext cx="1603080" cy="1447560"/>
            <a:chOff x="7315200" y="1905120"/>
            <a:chExt cx="1603080" cy="1447560"/>
          </a:xfrm>
        </p:grpSpPr>
        <p:pic>
          <p:nvPicPr>
            <p:cNvPr id="284" name="Picture 4" descr="Картинка 389 из 201900"/>
            <p:cNvPicPr/>
            <p:nvPr/>
          </p:nvPicPr>
          <p:blipFill>
            <a:blip r:embed="rId12"/>
            <a:stretch/>
          </p:blipFill>
          <p:spPr>
            <a:xfrm>
              <a:off x="7315200" y="1905120"/>
              <a:ext cx="15991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Прямоугольник 26"/>
            <p:cNvSpPr/>
            <p:nvPr/>
          </p:nvSpPr>
          <p:spPr>
            <a:xfrm>
              <a:off x="7321680" y="2266920"/>
              <a:ext cx="159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b0f0"/>
                  </a:solidFill>
                  <a:latin typeface="Arial Narrow"/>
                </a:rPr>
                <a:t>ночьн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хлопают 1.wav" descr=""/>
          <p:cNvPicPr/>
          <p:nvPr/>
        </p:nvPicPr>
        <p:blipFill>
          <a:blip r:embed="rId13"/>
          <a:stretch/>
        </p:blipFill>
        <p:spPr>
          <a:xfrm>
            <a:off x="-106668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хлопают 1.wav" descr=""/>
          <p:cNvPicPr/>
          <p:nvPr/>
        </p:nvPicPr>
        <p:blipFill>
          <a:blip r:embed="rId14"/>
          <a:stretch/>
        </p:blipFill>
        <p:spPr>
          <a:xfrm>
            <a:off x="-11430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хлопают 1.wav" descr=""/>
          <p:cNvPicPr/>
          <p:nvPr/>
        </p:nvPicPr>
        <p:blipFill>
          <a:blip r:embed="rId15"/>
          <a:stretch/>
        </p:blipFill>
        <p:spPr>
          <a:xfrm>
            <a:off x="-11430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хлопают 1.wav" descr=""/>
          <p:cNvPicPr/>
          <p:nvPr/>
        </p:nvPicPr>
        <p:blipFill>
          <a:blip r:embed="rId16"/>
          <a:stretch/>
        </p:blipFill>
        <p:spPr>
          <a:xfrm>
            <a:off x="-11430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0" name="хлопают 1.wav" descr=""/>
          <p:cNvPicPr/>
          <p:nvPr/>
        </p:nvPicPr>
        <p:blipFill>
          <a:blip r:embed="rId17"/>
          <a:stretch/>
        </p:blipFill>
        <p:spPr>
          <a:xfrm>
            <a:off x="-1143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4125 -0.63334 E">
                                      <p:cBhvr>
                                        <p:cTn id="513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266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26961 -0.63334 E">
                                      <p:cBhvr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2664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46666 -0.04445 E">
                                      <p:cBhvr>
                                        <p:cTn id="535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266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3625 -0.1 E">
                                      <p:cBhvr>
                                        <p:cTn id="546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266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C -0.00347 0.00162 -0.00781 0.00116 -0.01042 0.00463 C -0.01215 0.00695 -0.01337 0.00995 -0.01545 0.01157 C -0.02378 0.01782 -0.03437 0.01829 -0.04306 0.02315 C -0.05122 0.02778 -0.05868 0.0338 -0.06719 0.03681 C -0.08125 0.04931 -0.10122 0.04745 -0.11719 0.05301 C -0.13264 0.05232 -0.14826 0.05232 -0.16372 0.0507 C -0.17708 0.04931 -0.19358 0.04306 -0.20694 0.03912 C -0.21424 0.03704 -0.21997 0.03195 -0.2276 0.02986 C -0.23368 0.02477 -0.23976 0.02222 -0.24653 0.01852 C -0.25278 0.01019 -0.2599 0.00208 -0.26719 -0.00463 C -0.27535 -0.0206 -0.27066 -0.01528 -0.27934 -0.02292 C -0.28681 -0.03773 -0.29392 -0.05162 -0.30347 -0.06435 C -0.30642 -0.07616 -0.30937 -0.08935 -0.31719 -0.09653 C -0.32049 -0.10995 -0.31649 -0.09722 -0.32413 -0.11018 C -0.33941 -0.13611 -0.32396 -0.11458 -0.33628 -0.13102 C -0.33906 -0.13912 -0.34444 -0.1456 -0.34653 -0.15393 C -0.35069 -0.17037 -0.34792 -0.16389 -0.35347 -0.17454 C -0.35469 -0.17917 -0.35747 -0.18356 -0.35694 -0.18843 C -0.35608 -0.19699 -0.35747 -0.20694 -0.35347 -0.21366 C -0.34896 -0.22106 -0.33177 -0.225 -0.32413 -0.22755 C -0.29705 -0.22523 -0.30156 -0.22523 -0.28108 -0.21597 C -0.27865 -0.21481 -0.27656 -0.2125 -0.27413 -0.21134 C -0.27066 -0.20949 -0.26372 -0.20694 -0.26372 -0.20694 C -0.25417 -0.19815 -0.24931 -0.19954 -0.23628 -0.19768 C -0.21181 -0.19977 -0.20573 -0.20046 -0.18628 -0.21366 C -0.18194 -0.22245 -0.17639 -0.22569 -0.17066 -0.23218 C -0.15503 -0.24977 -0.17101 -0.23449 -0.15868 -0.24583 C -0.15747 -0.24884 -0.15677 -0.25231 -0.15521 -0.25509 C -0.15382 -0.25787 -0.15122 -0.25926 -0.15 -0.26204 C -0.14826 -0.2662 -0.14861 -0.27176 -0.14653 -0.27569 C -0.14531 -0.27801 -0.14427 -0.28032 -0.14306 -0.28264 C -0.13906 -0.3037 -0.14219 -0.29583 -0.13628 -0.30787 C -0.13229 -0.3287 -0.13437 -0.32037 -0.13108 -0.33333 C -0.1283 -0.35972 -0.12899 -0.38843 -0.1224 -0.41366 C -0.12066 -0.43009 -0.11944 -0.44861 -0.11545 -0.46435 C -0.11424 -0.48148 -0.11233 -0.49792 -0.11042 -0.51481 C -0.1099 -0.53333 -0.10972 -0.55162 -0.10868 -0.57014 C -0.10729 -0.59444 -0.10104 -0.61898 -0.09826 -0.64329 C -0.09653 -0.65926 -0.09514 -0.67014 -0.09132 -0.68495 C -0.0901 -0.68935 -0.09045 -0.69421 -0.08958 -0.69861 C -0.08872 -0.70324 -0.08628 -0.7125 -0.08628 -0.7125 C -0.08507 -0.72893 -0.08507 -0.73472 -0.08281 -0.7493 C -0.08073 -0.76273 -0.07587 -0.78218 -0.07587 -0.79537 E">
                                      <p:cBhvr>
                                        <p:cTn id="55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C -0.00747 -0.01389 -0.01233 -0.02685 -0.0224 -0.03681 C -0.02587 -0.05093 -0.02153 -0.03681 -0.02934 -0.0507 C -0.0342 -0.05949 -0.03802 -0.06945 -0.04306 -0.07824 C -0.04844 -0.09908 -0.04774 -0.0838 -0.05 -0.11505 C -0.04948 -0.13912 -0.06076 -0.22824 -0.02587 -0.24375 C -0.02413 -0.24607 -0.02257 -0.24861 -0.02066 -0.2507 C -0.01736 -0.25417 -0.01024 -0.25973 -0.01024 -0.25973 C -0.00764 -0.27107 -0.00156 -0.28195 0.00347 -0.2919 C 0.00677 -0.29838 0.01389 -0.31042 0.01389 -0.31042 C 0.01337 -0.31806 0.01389 -0.32593 0.01215 -0.33334 C 0.00868 -0.34838 -0.00313 -0.35533 -0.01215 -0.3632 C -0.02309 -0.37315 -0.04722 -0.38889 -0.06024 -0.39306 C -0.06701 -0.39537 -0.07413 -0.39607 -0.08108 -0.39769 C -0.08906 -0.39954 -0.10521 -0.40232 -0.10521 -0.40232 C -0.11441 -0.40162 -0.12378 -0.40255 -0.13281 -0.4 C -0.13698 -0.39885 -0.13872 -0.39051 -0.13976 -0.38635 C -0.14375 -0.3676 -0.14757 -0.35023 -0.15 -0.33102 C -0.15052 -0.28195 -0.12517 -0.15324 -0.17934 -0.11736 C -0.19149 -0.10926 -0.1934 -0.10926 -0.20365 -0.10579 C -0.21285 -0.09931 -0.2224 -0.09653 -0.23281 -0.09422 C -0.23542 -0.09445 -0.26233 -0.09537 -0.27083 -0.09885 C -0.29132 -0.10718 -0.31007 -0.12338 -0.33108 -0.13102 C -0.34861 -0.1375 -0.36806 -0.13982 -0.38611 -0.1426 C -0.42691 -0.15625 -0.47031 -0.1632 -0.51198 -0.16551 C -0.52361 -0.16945 -0.53507 -0.17199 -0.54653 -0.17709 C -0.55799 -0.18218 -0.55938 -0.18889 -0.56719 -0.19769 C -0.57431 -0.20579 -0.57969 -0.2132 -0.58281 -0.22523 C -0.58333 -0.23056 -0.58368 -0.23611 -0.58438 -0.24144 C -0.58524 -0.24769 -0.58785 -0.25973 -0.58785 -0.25973 C -0.58993 -0.28172 -0.59115 -0.28658 -0.60347 -0.29885 C -0.60556 -0.30741 -0.60434 -0.30371 -0.60694 -0.31042 E">
                                      <p:cBhvr>
                                        <p:cTn id="577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77778E-006 C -0.01041 -0.01018 -0.0151 -0.01527 -0.0276 -0.01851 C -0.0368 -0.02453 -0.04548 -0.03194 -0.05521 -0.0368 C -0.06215 -0.04027 -0.0691 -0.04143 -0.07587 -0.04606 C -0.09114 -0.05648 -0.0783 -0.05069 -0.08958 -0.05509 C -0.0967 -0.06134 -0.10399 -0.06296 -0.11198 -0.06666 C -0.12673 -0.08148 -0.11041 -0.06736 -0.1276 -0.07592 C -0.13351 -0.07893 -0.13906 -0.08587 -0.14479 -0.08958 C -0.15434 -0.09583 -0.16354 -0.10185 -0.17239 -0.11041 C -0.18507 -0.12268 -0.19774 -0.13541 -0.21024 -0.14722 C -0.21215 -0.14907 -0.21337 -0.15208 -0.21545 -0.15393 C -0.21701 -0.15532 -0.2191 -0.15509 -0.22066 -0.15624 C -0.22778 -0.16111 -0.23455 -0.16898 -0.24132 -0.17476 C -0.24653 -0.17916 -0.25104 -0.18564 -0.25694 -0.18842 C -0.26215 -0.19074 -0.26371 -0.1912 -0.26892 -0.19536 C -0.27257 -0.19814 -0.27535 -0.20277 -0.27934 -0.20462 C -0.29045 -0.20972 -0.30156 -0.21365 -0.31198 -0.2206 C -0.31493 -0.22268 -0.31788 -0.22523 -0.32066 -0.22754 C -0.32239 -0.22893 -0.32396 -0.23101 -0.32587 -0.23217 C -0.33177 -0.23611 -0.33871 -0.24027 -0.34479 -0.24374 C -0.35347 -0.24861 -0.34948 -0.24351 -0.35694 -0.24837 C -0.37083 -0.2574 -0.37517 -0.25925 -0.39132 -0.26203 C -0.4026 -0.26712 -0.41441 -0.26504 -0.42587 -0.26898 C -0.45694 -0.26203 -0.43628 -0.27129 -0.43785 -0.18171 C -0.43854 -0.14583 -0.43507 -0.08796 -0.44305 -0.04606 C -0.44548 -0.02106 -0.44913 0.00348 -0.45521 0.02732 C -0.45677 0.03403 -0.45798 0.0419 -0.46024 0.04815 C -0.46111 0.0507 -0.46285 0.05255 -0.46371 0.0551 C -0.46719 0.06575 -0.46771 0.07339 -0.47239 0.08264 C -0.47465 0.09167 -0.4776 0.09653 -0.48264 0.10348 C -0.48837 0.12663 -0.47864 0.09144 -0.48958 0.11714 C -0.49132 0.1213 -0.49184 0.12639 -0.49305 0.13102 C -0.49427 0.13565 -0.49531 0.14028 -0.49653 0.14491 C -0.49705 0.14723 -0.49826 0.15163 -0.49826 0.15163 C -0.4967 0.20533 -0.49757 0.26204 -0.48264 0.31274 C -0.47951 0.32339 -0.47882 0.33079 -0.47413 0.34028 C -0.47205 0.35116 -0.46962 0.35533 -0.46371 0.3632 C -0.46059 0.3794 -0.45173 0.38704 -0.44479 0.40001 C -0.44323 0.40255 -0.44271 0.40626 -0.44132 0.40926 C -0.43628 0.41968 -0.42899 0.43033 -0.42239 0.43889 C -0.41996 0.44885 -0.4151 0.45718 -0.41198 0.46667 C -0.40416 0.48959 -0.41389 0.472 -0.40173 0.49885 C -0.39896 0.5051 -0.39531 0.51251 -0.39305 0.51945 C -0.38906 0.53172 -0.39028 0.53635 -0.38437 0.54931 C -0.38177 0.56274 -0.3743 0.57107 -0.37066 0.5838 C -0.36632 0.59885 -0.36493 0.60764 -0.35851 0.62061 C -0.35729 0.62593 -0.35712 0.63172 -0.35521 0.63681 C -0.35278 0.64329 -0.34896 0.64862 -0.34653 0.6551 C -0.34305 0.67339 -0.33489 0.68866 -0.32934 0.70579 C -0.3243 0.72107 -0.32291 0.73519 -0.31371 0.747 C -0.30937 0.76459 -0.3158 0.74352 -0.30694 0.75857 C -0.29791 0.77408 -0.31441 0.75741 -0.3 0.77014 C -0.29722 0.78102 -0.2934 0.78426 -0.28785 0.79306 C -0.27604 0.81135 -0.28889 0.79399 -0.28264 0.80232 E">
                                      <p:cBhvr>
                                        <p:cTn id="59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44583 -0.47777 E">
                                      <p:cBhvr>
                                        <p:cTn id="617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2664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3.7037E-006 C 0.0415 -0.00115 0.08056 -3.70369999999967E-006 0.12084 -0.00903 C 0.1323 -0.01435 0.14497 -0.01828 0.15695 -0.0206 C 0.16442 -0.02731 0.17223 -0.03217 0.18108 -0.03449 C 0.19254 -0.04421 0.20747 -0.05115 0.21737 -0.06435 C 0.229 -0.07986 0.22362 -0.07453 0.23282 -0.08264 C 0.23942 -0.09583 0.24514 -0.11273 0.25521 -0.12176 C 0.25903 -0.14166 0.25365 -0.12222 0.26216 -0.13565 C 0.26372 -0.13819 0.26424 -0.1419 0.26563 -0.14467 C 0.26962 -0.15301 0.27414 -0.16088 0.27935 -0.16782 C 0.28195 -0.17778 0.28386 -0.18773 0.28629 -0.19768 C 0.28681 -0.2 0.28751 -0.20231 0.28803 -0.20463 C 0.28855 -0.20694 0.28976 -0.21134 0.28976 -0.21134 C 0.2908 -0.23356 0.29358 -0.25625 0.28803 -0.27801 C 0.28751 -0.28796 0.28612 -0.33495 0.28108 -0.34699 C 0.27431 -0.36273 0.26476 -0.37801 0.25521 -0.39074 C 0.25139 -0.40625 0.25678 -0.39074 0.24844 -0.4 C 0.24358 -0.40555 0.24376 -0.41018 0.23976 -0.41597 C 0.23646 -0.42083 0.23282 -0.42523 0.22935 -0.42986 C 0.22761 -0.43217 0.22501 -0.43333 0.22257 -0.43449 C 0.2191 -0.43634 0.21216 -0.43889 0.21216 -0.43889 C 0.204 -0.44606 0.19358 -0.44629 0.18629 -0.45278 C 0.17952 -0.45879 0.18299 -0.45648 0.17587 -0.45972 C 0.16511 -0.47453 0.14827 -0.48842 0.13976 -0.50555 C 0.13455 -0.5162 0.12535 -0.5375 0.11737 -0.54467 C 0.11476 -0.55509 0.11129 -0.55972 0.10521 -0.56782 C 0.10105 -0.58379 0.0941 -0.59791 0.08629 -0.61134 C 0.08247 -0.62639 0.07362 -0.63727 0.06737 -0.65046 C 0.06112 -0.66365 0.06754 -0.65648 0.05869 -0.66412 C 0.05105 -0.6794 0.04393 -0.7 0.03455 -0.7125 C 0.03143 -0.72176 0.02709 -0.73055 0.02414 -0.73981 C 0.02067 -0.75115 0.0224 -0.75416 0.01563 -0.76319 C 0.01251 -0.77546 0.01494 -0.76805 0.00695 -0.78379 C -0.00034 -0.79815 -0.00711 -0.82083 -0.01718 -0.82986 C -0.02534 -0.84583 -0.02065 -0.84051 -0.02916 -0.84815 C -0.03246 -0.86134 -0.03732 -0.86528 -0.04652 -0.87129 C -0.04774 -0.87361 -0.04999 -0.87801 -0.04999 -0.87801 E">
                                      <p:cBhvr>
                                        <p:cTn id="62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6:10:24Z</dcterms:created>
  <dc:creator>Анна</dc:creator>
  <dc:description/>
  <dc:language>en-US</dc:language>
  <cp:lastModifiedBy>Boris</cp:lastModifiedBy>
  <dcterms:modified xsi:type="dcterms:W3CDTF">2013-01-30T15:47:42Z</dcterms:modified>
  <cp:revision>264</cp:revision>
  <dc:subject/>
  <dc:title>Слайд 1</dc:title>
</cp:coreProperties>
</file>